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7A6-7F35-4D58-BDC8-B9329B59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560-E42F-4F08-B4C3-CB3A90D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F98-4F33-486F-A740-84B757DE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900-CC7A-4EC0-993D-93D238C2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EFC-1E3D-492B-B6D1-178CAAF9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44A-CE9D-486C-BA63-DCEB78EC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1CA-47C4-434E-98D1-A293B4B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94B-1327-4D92-8CD3-D2EADF8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B83-28F7-4D09-A126-B3E1EFC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387-4C25-40B6-95AC-84A86BB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07C-4885-4223-9714-D4AEC1D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692-660F-48BA-9686-65BA3EB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1EC-9B02-4E4F-855B-044302206AFB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Role Concept of 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A3D-6140-437A-94C2-D92D3D698C5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3356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Function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3889440" cy="4925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onventional Functional Model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809880" cy="35287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835280" y="2708280"/>
            <a:ext cx="1366200" cy="3672000"/>
            <a:chOff x="1835280" y="2708280"/>
            <a:chExt cx="1366200" cy="3672000"/>
          </a:xfrm>
        </p:grpSpPr>
        <p:grpSp>
          <p:nvGrpSpPr>
            <p:cNvPr id="80" name=""/>
            <p:cNvGrpSpPr/>
            <p:nvPr/>
          </p:nvGrpSpPr>
          <p:grpSpPr>
            <a:xfrm>
              <a:off x="1835280" y="2708280"/>
              <a:ext cx="1223640" cy="3654360"/>
              <a:chOff x="1835280" y="2708280"/>
              <a:chExt cx="1223640" cy="3654360"/>
            </a:xfrm>
          </p:grpSpPr>
          <p:sp>
            <p:nvSpPr>
              <p:cNvPr id="81" name=""/>
              <p:cNvSpPr/>
              <p:nvPr/>
            </p:nvSpPr>
            <p:spPr>
              <a:xfrm>
                <a:off x="1835280" y="270828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35280" y="392904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35280" y="5160960"/>
                <a:ext cx="1223640" cy="12016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19040" y="53006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6960" y="60213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44760" y="2708280"/>
              <a:ext cx="0" cy="122400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60600" y="5156280"/>
              <a:ext cx="0" cy="122400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6560" y="313992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f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09840" y="314640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3840" y="4327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e8a"/>
                  </a:solidFill>
                  <a:latin typeface="Arial"/>
                </a:rPr>
                <a:t>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6560" y="55879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a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54200" y="558792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2e8a"/>
                  </a:solidFill>
                  <a:latin typeface="Arial"/>
                </a:rPr>
                <a:t>f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700280"/>
            <a:ext cx="37450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pened Ladder Model            </a:t>
            </a:r>
            <a:r>
              <a:rPr b="0" lang="de-DE" sz="1800" spc="-1" strike="noStrike">
                <a:solidFill>
                  <a:srgbClr val="003399"/>
                </a:solidFill>
                <a:latin typeface="Trebuchet MS"/>
              </a:rPr>
              <a:t>B.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4E4-3E94-49E0-9CEE-C0034CA0988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9818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989000"/>
          <a:ext cx="761832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9000"/>
                    <a:ext cx="7618320" cy="3606840"/>
                  </a:xfrm>
                  <a:prstGeom prst="rect">
                    <a:avLst/>
                  </a:prstGeom>
                  <a:ln cap="sq" w="19080">
                    <a:solidFill>
                      <a:srgbClr val="002e8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03920" y="5807160"/>
            <a:ext cx="47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e8a"/>
                </a:solidFill>
                <a:latin typeface="Trebuchet MS"/>
              </a:rPr>
              <a:t>(in: </a:t>
            </a: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Schmid, B.</a:t>
            </a:r>
            <a:r>
              <a:rPr b="1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 (</a:t>
            </a:r>
            <a:r>
              <a:rPr b="1" lang="de-DE" sz="1200" spc="-1" strike="noStrike">
                <a:solidFill>
                  <a:srgbClr val="002e8a"/>
                </a:solidFill>
                <a:latin typeface="Trebuchet MS"/>
                <a:ea typeface="Arial"/>
              </a:rPr>
              <a:t>1994</a:t>
            </a:r>
            <a:r>
              <a:rPr b="1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2e8a"/>
                </a:solidFill>
                <a:latin typeface="Trebuchet MS"/>
                <a:ea typeface="Times New Roman"/>
              </a:rPr>
              <a:t> </a:t>
            </a:r>
            <a:r>
              <a:rPr b="1" lang="de-DE" sz="1200" spc="-1" strike="noStrike">
                <a:solidFill>
                  <a:srgbClr val="002e8a"/>
                </a:solidFill>
                <a:latin typeface="Trebuchet MS"/>
                <a:ea typeface="Arial"/>
              </a:rPr>
              <a:t>Transactional Analysis and Social Roles</a:t>
            </a:r>
            <a:r>
              <a:rPr b="1" lang="en-US" sz="1200" spc="-1" strike="noStrike">
                <a:solidFill>
                  <a:srgbClr val="002e8a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331-9EA6-4E9E-AA98-B32BDBB8190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4364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e role model and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333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5734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Presentation of transactions with the help of the role model of personality</a:t>
            </a:r>
            <a:r>
              <a:rPr b="1" lang="de-DE" sz="1800" spc="-1" strike="noStrike">
                <a:solidFill>
                  <a:srgbClr val="002e8a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666800"/>
          <a:ext cx="7467840" cy="39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666800"/>
                    <a:ext cx="74678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857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neu-2" descr=""/>
          <p:cNvPicPr/>
          <p:nvPr/>
        </p:nvPicPr>
        <p:blipFill>
          <a:blip r:embed="rId3"/>
          <a:stretch/>
        </p:blipFill>
        <p:spPr>
          <a:xfrm>
            <a:off x="1187280" y="1295280"/>
            <a:ext cx="7016760" cy="4267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70B-F266-46A8-8B0C-4AF1481FD45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553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e Role model and transactions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xampl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557360"/>
            <a:ext cx="79930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Imagine a strategy discussion between the head of a Human Resources department and his team with the agenda deciding on prior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At first, discussion is on the level of organizational roles, on which (according to the company’s culture people can offer suggestions, but have to leave the final decision to the head ( transaction 1./2. in figure 2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After some time, unnoticed by the participants, there is a switch to professional argument (transaction 3./4. in Figure 2), in which everybody feels dominated and not as having equal rights. In the background, there might be male rivalry directed towards a woman also present. The psychological approach might suggest to direct attention to this kind of backgrou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8a"/>
                </a:solidFill>
                <a:latin typeface="Trebuchet MS"/>
              </a:rPr>
              <a:t>The organizational consulting approach might direct attention to the switch in roles and role-relationships. Re-establishing a stable communication between organizational roles might solve the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F96-2DEB-4DD7-984B-4FDD015C80C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8000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ISB-Wiesloch formula for professional compet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2637000"/>
            <a:ext cx="6705720" cy="2438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Competence in organizations =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role competence x compete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in the professional field  x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2e8a"/>
                </a:solidFill>
                <a:latin typeface="Trebuchet MS"/>
                <a:ea typeface="Arial"/>
              </a:rPr>
              <a:t>matching</a:t>
            </a: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FDC-85C3-4EB3-BA8D-EB90D1C9ED4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98472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Implications and consequences of the 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Wiesloch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 competence formul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8208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mpetence is not only a property of a person but of 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an be differentiated into role-competence and context-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ifferentiates between the competence to play roles and competence to understand th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mpetence depends on how well the individuals and the organizations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A13-3D79-40F5-A684-D91B9FA90AE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26436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atching between individual and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549760" y="3068640"/>
          <a:ext cx="342900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9760" y="3068640"/>
                    <a:ext cx="3429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87280" y="2209680"/>
          <a:ext cx="9576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209680"/>
                    <a:ext cx="957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484360" y="2349360"/>
            <a:ext cx="2971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How does the organization make sense to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How do I make sense to the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906-E972-451A-A223-2EDF99DE9C9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984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98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1989000"/>
            <a:ext cx="6408720" cy="3840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58920" y="189000"/>
            <a:ext cx="6410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matching system circle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15D-45A1-45A5-BBF0-D013B9E4CF91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34364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EBMA San Francisco 2007 </a:t>
            </a:r>
            <a:br>
              <a:rPr sz="2800"/>
            </a:b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Moniek Thunnissen (Scientific Committee): 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1" lang="de-DE" sz="2800" spc="-1" strike="noStrike">
                <a:solidFill>
                  <a:srgbClr val="00318a"/>
                </a:solidFill>
                <a:latin typeface="Trebuchet MS"/>
              </a:rPr>
              <a:t>Schmid made TA really organizational!</a:t>
            </a: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"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1473120"/>
            <a:ext cx="5832360" cy="53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BE2-6638-4A2B-B3E1-8D6889D159D5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989000"/>
          <a:ext cx="73152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9000"/>
                    <a:ext cx="7315200" cy="3463920"/>
                  </a:xfrm>
                  <a:prstGeom prst="rect">
                    <a:avLst/>
                  </a:prstGeom>
                  <a:ln cap="sq" w="19080">
                    <a:solidFill>
                      <a:srgbClr val="002e8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151-7424-46F9-9274-0E607DF06A4C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6985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le concept of 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1844640"/>
            <a:ext cx="66978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Expansion of the ego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an be used like ego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A personalit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A communic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F51-09E6-4DD3-B9E0-F43897042D9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734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Definition of Ro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2349360"/>
            <a:ext cx="7093080" cy="2140200"/>
          </a:xfrm>
          <a:prstGeom prst="rect">
            <a:avLst/>
          </a:prstGeom>
          <a:solidFill>
            <a:srgbClr val="99bbff">
              <a:alpha val="50000"/>
            </a:srgbClr>
          </a:solidFill>
          <a:ln cap="sq" w="12600">
            <a:solidFill>
              <a:srgbClr val="0031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18a"/>
                </a:solidFill>
                <a:latin typeface="Trebuchet MS"/>
              </a:rPr>
              <a:t>A role is a coherent system of attitudes, feelings, behaviour, perspective on reality and the accompanying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C64-9765-4CF6-8A7E-5C8D8F8F077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48000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Role model of personal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700280"/>
            <a:ext cx="7056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Personality as: the portfolio of his/her roles,played on the stages of his/her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Uniqueness is expressed by the way of structuring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onnects people with the plays and stages of their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Thus personality is also a matter of context and co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F39-AFEC-4C10-AE62-E0362EC4BFB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Concepts of restrictions (based on ego-states) now used with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700280"/>
            <a:ext cx="7056720" cy="36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fixation, role exclusion, role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contamination (chronic inclusion of elements from other roles in a role, without being aware of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ole habits and conventions (rack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7C4-13A3-4BA7-8551-BD7BE1F1E7B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16000" y="2133720"/>
            <a:ext cx="4969080" cy="390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333360"/>
            <a:ext cx="6912000" cy="57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ree Worlds model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E8F-AD54-48B5-8C77-D5A13612121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40872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les and worl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1773360"/>
            <a:ext cx="705636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Func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Connecting person with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Three worlds model – private, organizational and profession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Worlds could be different in number or definition, e.g. In the Four World model (Mohr, G. 2006), the community world as a category of its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EC8-D9AC-480A-8DEB-761D0244A0D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5:15:21Z</dcterms:modified>
  <cp:revision>427</cp:revision>
  <dc:subject/>
  <dc:title>PowerPoint-Präsentation</dc:title>
</cp:coreProperties>
</file>