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png" ContentType="image/png"/>
  <Override PartName="/ppt/media/image11.wmf" ContentType="image/x-wmf"/>
  <Override PartName="/ppt/media/image12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6CD1-87EB-41B4-A412-C9F8AE18B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7924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8960" y="3765600"/>
            <a:ext cx="7924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54FC-5556-407F-8332-1FB3F19A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8960" y="376560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79760" y="376560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5C7B-46F3-4A49-9C38-02F591A72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8440" y="138384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78280" y="138384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8960" y="376560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8440" y="376560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78280" y="376560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D2D0-1054-438A-8FD9-52E63DCDF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8960" y="1383840"/>
            <a:ext cx="792468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8626-8177-45A9-B09C-4B6A1FE8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792468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1A8D-F543-4BF8-8EC2-6C15C2BD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657B-A6E6-41EB-AC8E-D11377F2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88B0-8B91-4E85-A956-CD33BEB5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8960" y="-360"/>
            <a:ext cx="792468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E103-6AE8-4210-BC42-D6095F1F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8960" y="376560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1800-1786-4C4C-8CAF-B0E3A4BA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79760" y="376560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EC63-4493-4F97-8E2A-EDE3D2DE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8960" y="3765600"/>
            <a:ext cx="7924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CBE6-8EA5-4BAA-AA5A-BB926803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C8B9-04B4-4DB3-B58B-A60DB415D1D7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1932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218960" y="1383840"/>
            <a:ext cx="7924680" cy="4559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"/>
          <p:cNvSpPr/>
          <p:nvPr/>
        </p:nvSpPr>
        <p:spPr>
          <a:xfrm>
            <a:off x="0" y="27907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3812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7848720" y="76320"/>
            <a:ext cx="1218960" cy="12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sb-w.de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6006960"/>
            <a:ext cx="80643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024600"/>
            <a:ext cx="8686800" cy="833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2e8a"/>
                </a:solidFill>
                <a:latin typeface="Trebuchet MS"/>
                <a:ea typeface="Arial"/>
              </a:rPr>
              <a:t>Institute for systemic consulting, Wiesloch (Germany)</a:t>
            </a:r>
            <a:r>
              <a:rPr b="1" lang="de-DE" sz="18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8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ccccff"/>
                </a:solidFill>
                <a:uFillTx/>
                <a:latin typeface="Century Gothic"/>
                <a:ea typeface="Arial"/>
                <a:hlinkClick r:id="rId1"/>
              </a:rPr>
              <a:t>www.isb-w.de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098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42920" y="2095560"/>
            <a:ext cx="7467840" cy="26668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2e8a"/>
                </a:solidFill>
                <a:latin typeface="Trebuchet MS"/>
              </a:rPr>
              <a:t> </a:t>
            </a:r>
            <a:r>
              <a:rPr b="1" lang="de-DE" sz="3600" spc="-1" strike="noStrike">
                <a:solidFill>
                  <a:srgbClr val="002e8a"/>
                </a:solidFill>
                <a:latin typeface="Trebuchet MS"/>
              </a:rPr>
              <a:t>The Role Concept of 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77CC-6F76-4EB0-ADF5-7BD14951F558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76000" y="-360"/>
            <a:ext cx="633564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Functions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3889440" cy="4925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rebuchet MS"/>
              </a:rPr>
              <a:t>Conventional Functional Model</a:t>
            </a: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788000" y="2637000"/>
            <a:ext cx="3809880" cy="352872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1835280" y="2708280"/>
            <a:ext cx="1366200" cy="3672000"/>
            <a:chOff x="1835280" y="2708280"/>
            <a:chExt cx="1366200" cy="3672000"/>
          </a:xfrm>
        </p:grpSpPr>
        <p:grpSp>
          <p:nvGrpSpPr>
            <p:cNvPr id="80" name=""/>
            <p:cNvGrpSpPr/>
            <p:nvPr/>
          </p:nvGrpSpPr>
          <p:grpSpPr>
            <a:xfrm>
              <a:off x="1835280" y="2708280"/>
              <a:ext cx="1223640" cy="3654360"/>
              <a:chOff x="1835280" y="2708280"/>
              <a:chExt cx="1223640" cy="3654360"/>
            </a:xfrm>
          </p:grpSpPr>
          <p:sp>
            <p:nvSpPr>
              <p:cNvPr id="81" name=""/>
              <p:cNvSpPr/>
              <p:nvPr/>
            </p:nvSpPr>
            <p:spPr>
              <a:xfrm>
                <a:off x="1835280" y="2708280"/>
                <a:ext cx="1223640" cy="1201680"/>
              </a:xfrm>
              <a:prstGeom prst="ellipse">
                <a:avLst/>
              </a:prstGeom>
              <a:noFill/>
              <a:ln w="9360">
                <a:solidFill>
                  <a:srgbClr val="002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835280" y="3929040"/>
                <a:ext cx="1223640" cy="1201680"/>
              </a:xfrm>
              <a:prstGeom prst="ellipse">
                <a:avLst/>
              </a:prstGeom>
              <a:noFill/>
              <a:ln w="9360">
                <a:solidFill>
                  <a:srgbClr val="002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835280" y="5160960"/>
                <a:ext cx="1223640" cy="1201680"/>
              </a:xfrm>
              <a:prstGeom prst="ellipse">
                <a:avLst/>
              </a:prstGeom>
              <a:noFill/>
              <a:ln w="9360">
                <a:solidFill>
                  <a:srgbClr val="002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2219040" y="530064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26960" y="60213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444760" y="2708280"/>
              <a:ext cx="0" cy="1224000"/>
            </a:xfrm>
            <a:prstGeom prst="line">
              <a:avLst/>
            </a:prstGeom>
            <a:ln w="15840">
              <a:solidFill>
                <a:srgbClr val="002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60600" y="5156280"/>
              <a:ext cx="0" cy="1224000"/>
            </a:xfrm>
            <a:prstGeom prst="line">
              <a:avLst/>
            </a:prstGeom>
            <a:ln w="15840">
              <a:solidFill>
                <a:srgbClr val="002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06560" y="3139920"/>
              <a:ext cx="64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2e8a"/>
                  </a:solidFill>
                  <a:latin typeface="Arial"/>
                </a:rPr>
                <a:t>f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409840" y="3146400"/>
              <a:ext cx="79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2e8a"/>
                  </a:solidFill>
                  <a:latin typeface="Arial"/>
                </a:rPr>
                <a:t>k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93840" y="43275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e8a"/>
                  </a:solidFill>
                  <a:latin typeface="Arial"/>
                </a:rPr>
                <a:t>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06560" y="558792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2e8a"/>
                  </a:solidFill>
                  <a:latin typeface="Arial"/>
                </a:rPr>
                <a:t>a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54200" y="5587920"/>
              <a:ext cx="4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2e8a"/>
                  </a:solidFill>
                  <a:latin typeface="Arial"/>
                </a:rPr>
                <a:t>f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32360" y="1700280"/>
            <a:ext cx="37450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rebuchet MS"/>
              </a:rPr>
              <a:t>Opened Ladder Model            </a:t>
            </a:r>
            <a:r>
              <a:rPr b="0" lang="de-DE" sz="1800" spc="-1" strike="noStrike">
                <a:solidFill>
                  <a:srgbClr val="003399"/>
                </a:solidFill>
                <a:latin typeface="Trebuchet MS"/>
              </a:rPr>
              <a:t>B. Schm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716F-7DFE-4C5A-AFFC-B25BE6EFA21D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698184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2e8a"/>
                </a:solidFill>
                <a:latin typeface="Trebuchet MS"/>
              </a:rPr>
              <a:t>Three Worlds model of pers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1676520"/>
            <a:ext cx="7924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14400" y="1989000"/>
          <a:ext cx="7618320" cy="360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89000"/>
                    <a:ext cx="7618320" cy="3606840"/>
                  </a:xfrm>
                  <a:prstGeom prst="rect">
                    <a:avLst/>
                  </a:prstGeom>
                  <a:ln cap="sq" w="19080">
                    <a:solidFill>
                      <a:srgbClr val="002e8a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203920" y="5807160"/>
            <a:ext cx="47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e8a"/>
                </a:solidFill>
                <a:latin typeface="Trebuchet MS"/>
              </a:rPr>
              <a:t>(in: </a:t>
            </a:r>
            <a:r>
              <a:rPr b="0" lang="en-US" sz="1200" spc="-1" strike="noStrike">
                <a:solidFill>
                  <a:srgbClr val="002e8a"/>
                </a:solidFill>
                <a:latin typeface="Trebuchet MS"/>
                <a:ea typeface="Times New Roman"/>
              </a:rPr>
              <a:t>Schmid, B.</a:t>
            </a:r>
            <a:r>
              <a:rPr b="1" lang="en-US" sz="1200" spc="-1" strike="noStrike">
                <a:solidFill>
                  <a:srgbClr val="002e8a"/>
                </a:solidFill>
                <a:latin typeface="Trebuchet MS"/>
                <a:ea typeface="Times New Roman"/>
              </a:rPr>
              <a:t> (</a:t>
            </a:r>
            <a:r>
              <a:rPr b="1" lang="de-DE" sz="1200" spc="-1" strike="noStrike">
                <a:solidFill>
                  <a:srgbClr val="002e8a"/>
                </a:solidFill>
                <a:latin typeface="Trebuchet MS"/>
                <a:ea typeface="Arial"/>
              </a:rPr>
              <a:t>1994</a:t>
            </a:r>
            <a:r>
              <a:rPr b="1" lang="en-US" sz="1200" spc="-1" strike="noStrike">
                <a:solidFill>
                  <a:srgbClr val="002e8a"/>
                </a:solidFill>
                <a:latin typeface="Trebuchet MS"/>
                <a:ea typeface="Times New Roman"/>
              </a:rPr>
              <a:t>)</a:t>
            </a:r>
            <a:r>
              <a:rPr b="0" lang="en-US" sz="1200" spc="-1" strike="noStrike">
                <a:solidFill>
                  <a:srgbClr val="002e8a"/>
                </a:solidFill>
                <a:latin typeface="Trebuchet MS"/>
                <a:ea typeface="Times New Roman"/>
              </a:rPr>
              <a:t> </a:t>
            </a:r>
            <a:r>
              <a:rPr b="1" lang="de-DE" sz="1200" spc="-1" strike="noStrike">
                <a:solidFill>
                  <a:srgbClr val="002e8a"/>
                </a:solidFill>
                <a:latin typeface="Trebuchet MS"/>
                <a:ea typeface="Arial"/>
              </a:rPr>
              <a:t>Transactional Analysis and Social Roles</a:t>
            </a:r>
            <a:r>
              <a:rPr b="1" lang="en-US" sz="1200" spc="-1" strike="noStrike">
                <a:solidFill>
                  <a:srgbClr val="002e8a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928E-1143-480B-9A8F-2B915D824F8F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31640" y="0"/>
            <a:ext cx="6443640" cy="13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2e8a"/>
                </a:solidFill>
                <a:latin typeface="Trebuchet MS"/>
              </a:rPr>
              <a:t>The role model and trans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1676520"/>
            <a:ext cx="7924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3336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58920" y="5734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e8a"/>
                </a:solidFill>
                <a:latin typeface="Trebuchet MS"/>
                <a:ea typeface="Arial"/>
              </a:rPr>
              <a:t>Presentation of transactions with the help of the role model of personality</a:t>
            </a:r>
            <a:r>
              <a:rPr b="1" lang="de-DE" sz="1800" spc="-1" strike="noStrike">
                <a:solidFill>
                  <a:srgbClr val="002e8a"/>
                </a:solidFill>
                <a:latin typeface="Trebuchet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346040" y="1666800"/>
          <a:ext cx="7467840" cy="39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1666800"/>
                    <a:ext cx="7467840" cy="39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285768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neu-2" descr=""/>
          <p:cNvPicPr/>
          <p:nvPr/>
        </p:nvPicPr>
        <p:blipFill>
          <a:blip r:embed="rId3"/>
          <a:stretch/>
        </p:blipFill>
        <p:spPr>
          <a:xfrm>
            <a:off x="1187280" y="1295280"/>
            <a:ext cx="7016760" cy="4267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D266-2B1C-48C0-8B32-A59D49CB0C2E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189000"/>
            <a:ext cx="6553080" cy="100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 </a:t>
            </a:r>
            <a:r>
              <a:rPr b="1" lang="de-DE" sz="3200" spc="-1" strike="noStrike">
                <a:solidFill>
                  <a:srgbClr val="002e8a"/>
                </a:solidFill>
                <a:latin typeface="Trebuchet MS"/>
              </a:rPr>
              <a:t>The Role model and transactions</a:t>
            </a: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 </a:t>
            </a:r>
            <a:br>
              <a:rPr sz="3200"/>
            </a:b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Example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1557360"/>
            <a:ext cx="7993080" cy="51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18a"/>
                </a:solidFill>
                <a:latin typeface="Trebuchet MS"/>
              </a:rPr>
              <a:t>Imagine a strategy discussion between the head of a Human Resources department and his team with the agenda deciding on prioriti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18a"/>
                </a:solidFill>
                <a:latin typeface="Trebuchet MS"/>
              </a:rPr>
              <a:t>At first, discussion is on the level of organizational roles, on which (according to the company’s culture people can offer suggestions, but have to leave the final decision to the head ( transaction 1./2. in figure 2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18a"/>
                </a:solidFill>
                <a:latin typeface="Trebuchet MS"/>
              </a:rPr>
              <a:t>After some time, unnoticed by the participants, there is a switch to professional argument (transaction 3./4. in Figure 2), in which everybody feels dominated and not as having equal rights. In the background, there might be male rivalry directed towards a woman also present. The psychological approach might suggest to direct attention to this kind of backgroun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18a"/>
                </a:solidFill>
                <a:latin typeface="Trebuchet MS"/>
              </a:rPr>
              <a:t>The organizational consulting approach might direct attention to the switch in roles and role-relationships. Re-establishing a stable communication between organizational roles might solve the probl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3CED-BB23-4A31-BE77-F610A921C7C2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6480000" cy="13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2e8a"/>
                </a:solidFill>
                <a:latin typeface="Trebuchet MS"/>
              </a:rPr>
              <a:t>ISB-Wiesloch formula for professional compet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1676520"/>
            <a:ext cx="7924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87280" y="2637000"/>
            <a:ext cx="6705720" cy="24382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2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2e8a"/>
                </a:solidFill>
                <a:latin typeface="Trebuchet MS"/>
                <a:ea typeface="Arial"/>
              </a:rPr>
              <a:t>Competence in organizations =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2e8a"/>
                </a:solidFill>
                <a:latin typeface="Trebuchet MS"/>
                <a:ea typeface="Arial"/>
              </a:rPr>
              <a:t>role competence x competenc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2e8a"/>
                </a:solidFill>
                <a:latin typeface="Trebuchet MS"/>
                <a:ea typeface="Arial"/>
              </a:rPr>
              <a:t>in the professional field  x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2e8a"/>
                </a:solidFill>
                <a:latin typeface="Trebuchet MS"/>
                <a:ea typeface="Arial"/>
              </a:rPr>
              <a:t>matching</a:t>
            </a:r>
            <a:r>
              <a:rPr b="1" lang="de-DE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D209-7760-49E8-81AC-6B8C7AEE3DB1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6984720" cy="100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2800" spc="-1" strike="noStrike">
                <a:solidFill>
                  <a:srgbClr val="00318a"/>
                </a:solidFill>
                <a:latin typeface="Trebuchet MS"/>
              </a:rPr>
              <a:t>Implications and consequences of the </a:t>
            </a:r>
            <a:r>
              <a:rPr b="1" lang="en-US" sz="2800" spc="-1" strike="noStrike">
                <a:solidFill>
                  <a:srgbClr val="00318a"/>
                </a:solidFill>
                <a:latin typeface="Trebuchet MS"/>
              </a:rPr>
              <a:t>"</a:t>
            </a:r>
            <a:r>
              <a:rPr b="1" lang="de-DE" sz="2800" spc="-1" strike="noStrike">
                <a:solidFill>
                  <a:srgbClr val="00318a"/>
                </a:solidFill>
                <a:latin typeface="Trebuchet MS"/>
              </a:rPr>
              <a:t>Wiesloch</a:t>
            </a:r>
            <a:r>
              <a:rPr b="1" lang="en-US" sz="2800" spc="-1" strike="noStrike">
                <a:solidFill>
                  <a:srgbClr val="00318a"/>
                </a:solidFill>
                <a:latin typeface="Trebuchet MS"/>
              </a:rPr>
              <a:t>"</a:t>
            </a:r>
            <a:r>
              <a:rPr b="1" lang="de-DE" sz="2800" spc="-1" strike="noStrike">
                <a:solidFill>
                  <a:srgbClr val="00318a"/>
                </a:solidFill>
                <a:latin typeface="Trebuchet MS"/>
              </a:rPr>
              <a:t> competence formul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1773360"/>
            <a:ext cx="82087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18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Competence is not only a property of a person but of a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18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Can be differentiated into role-competence and context-compet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18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Differentiates between the competence to play roles and competence to understand the 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18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Competence depends on how well the individuals and the organizations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8575-DA22-45A2-98AD-1E8718506B39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47280" y="189000"/>
            <a:ext cx="6264360" cy="13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2e8a"/>
                </a:solidFill>
                <a:latin typeface="Trebuchet MS"/>
              </a:rPr>
              <a:t>Matching between individual and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1676520"/>
            <a:ext cx="7924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549760" y="3068640"/>
          <a:ext cx="3429000" cy="90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9760" y="3068640"/>
                    <a:ext cx="342900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187280" y="2209680"/>
          <a:ext cx="957600" cy="327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2209680"/>
                    <a:ext cx="95760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2484360" y="2349360"/>
            <a:ext cx="2971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e8a"/>
                </a:solidFill>
                <a:latin typeface="Trebuchet MS"/>
              </a:rPr>
              <a:t>How does the organization make sense to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e8a"/>
                </a:solidFill>
                <a:latin typeface="Trebuchet MS"/>
              </a:rPr>
              <a:t>How do I make sense to the organiz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492A-D9EB-4306-82FB-807F22A3A65E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4098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0984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0984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0984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0984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95280" y="1989000"/>
            <a:ext cx="6408720" cy="38404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258920" y="189000"/>
            <a:ext cx="6410160" cy="100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The matching system circle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9C17-DC9F-4FB9-AB74-D584B246E8A8}" type="slidenum">
              <a:t>17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343640" cy="1341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18a"/>
                </a:solidFill>
                <a:latin typeface="Trebuchet MS"/>
              </a:rPr>
              <a:t>EBMA San Francisco 2007 </a:t>
            </a:r>
            <a:br>
              <a:rPr sz="2800"/>
            </a:br>
            <a:r>
              <a:rPr b="1" lang="de-DE" sz="2800" spc="-1" strike="noStrike">
                <a:solidFill>
                  <a:srgbClr val="00318a"/>
                </a:solidFill>
                <a:latin typeface="Trebuchet MS"/>
              </a:rPr>
              <a:t>Moniek Thunnissen (Scientific Committee): </a:t>
            </a:r>
            <a:r>
              <a:rPr b="1" lang="en-US" sz="2800" spc="-1" strike="noStrike">
                <a:solidFill>
                  <a:srgbClr val="00318a"/>
                </a:solidFill>
                <a:latin typeface="Trebuchet MS"/>
              </a:rPr>
              <a:t>"</a:t>
            </a:r>
            <a:r>
              <a:rPr b="1" lang="de-DE" sz="2800" spc="-1" strike="noStrike">
                <a:solidFill>
                  <a:srgbClr val="00318a"/>
                </a:solidFill>
                <a:latin typeface="Trebuchet MS"/>
              </a:rPr>
              <a:t>Schmid made TA really organizational!</a:t>
            </a:r>
            <a:r>
              <a:rPr b="1" lang="en-US" sz="2800" spc="-1" strike="noStrike">
                <a:solidFill>
                  <a:srgbClr val="00318a"/>
                </a:solidFill>
                <a:latin typeface="Trebuchet MS"/>
              </a:rPr>
              <a:t>"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19280" y="1473120"/>
            <a:ext cx="5832360" cy="533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EE78-A9B0-4297-B78D-C2581226F615}" type="slidenum">
              <a:t>2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6408720" cy="13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2e8a"/>
                </a:solidFill>
                <a:latin typeface="Trebuchet MS"/>
              </a:rPr>
              <a:t>Three Worlds model of pers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1676520"/>
            <a:ext cx="7924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14400" y="1989000"/>
          <a:ext cx="7315200" cy="34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89000"/>
                    <a:ext cx="7315200" cy="3463920"/>
                  </a:xfrm>
                  <a:prstGeom prst="rect">
                    <a:avLst/>
                  </a:prstGeom>
                  <a:ln cap="sq" w="19080">
                    <a:solidFill>
                      <a:srgbClr val="002e8a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7E5D-A967-4F66-AB28-B4CBD636AD69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07640" y="260280"/>
            <a:ext cx="6985080" cy="100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Role concept of T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1258920" y="1844640"/>
            <a:ext cx="6697800" cy="27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spcAft>
                <a:spcPts val="700"/>
              </a:spcAft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18a"/>
                </a:solidFill>
                <a:latin typeface="Trebuchet MS"/>
              </a:rPr>
              <a:t>Expansion of the ego stat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spcAft>
                <a:spcPts val="700"/>
              </a:spcAft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18a"/>
                </a:solidFill>
                <a:latin typeface="Trebuchet MS"/>
              </a:rPr>
              <a:t>Can be used like ego stat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spcAft>
                <a:spcPts val="700"/>
              </a:spcAft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18a"/>
                </a:solidFill>
                <a:latin typeface="Trebuchet MS"/>
              </a:rPr>
              <a:t>A personality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spcAft>
                <a:spcPts val="700"/>
              </a:spcAft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18a"/>
                </a:solidFill>
                <a:latin typeface="Trebuchet MS"/>
              </a:rPr>
              <a:t>A communica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B53E-8A34-4B27-A8EA-9C03460391EE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8920" y="260280"/>
            <a:ext cx="6734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Definition of Rol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1116000" y="2349360"/>
            <a:ext cx="7093080" cy="2140200"/>
          </a:xfrm>
          <a:prstGeom prst="rect">
            <a:avLst/>
          </a:prstGeom>
          <a:solidFill>
            <a:srgbClr val="99bbff">
              <a:alpha val="50000"/>
            </a:srgbClr>
          </a:solidFill>
          <a:ln cap="sq" w="12600">
            <a:solidFill>
              <a:srgbClr val="0031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18a"/>
                </a:solidFill>
                <a:latin typeface="Trebuchet MS"/>
              </a:rPr>
              <a:t>A role is a coherent system of attitudes, feelings, behaviour, perspective on reality and the accompanying relationshi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7853-0A16-4D51-AB76-BB0EC445B5EE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6480000" cy="100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The Role model of personalit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1187280" y="1700280"/>
            <a:ext cx="705672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18a"/>
                </a:solidFill>
                <a:latin typeface="Trebuchet MS"/>
              </a:rPr>
              <a:t>Personality as: the portfolio of his/her roles,played on the stages of his/her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18a"/>
                </a:solidFill>
                <a:latin typeface="Trebuchet MS"/>
              </a:rPr>
              <a:t>Uniqueness is expressed by the way of structuring r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18a"/>
                </a:solidFill>
                <a:latin typeface="Trebuchet MS"/>
              </a:rPr>
              <a:t>Connects people with the plays and stages of their wor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18a"/>
                </a:solidFill>
                <a:latin typeface="Trebuchet MS"/>
              </a:rPr>
              <a:t>Thus personality is also a matter of context and cont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EF47-9D45-4C7C-90F7-8A6761CDF0B9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6985080" cy="100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Concepts of restrictions (based on ego-states) now used with ro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1187280" y="1700280"/>
            <a:ext cx="7056720" cy="36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318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18a"/>
                </a:solidFill>
                <a:latin typeface="Trebuchet MS"/>
              </a:rPr>
              <a:t>Role fixation, role exclusion, role conf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318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18a"/>
                </a:solidFill>
                <a:latin typeface="Trebuchet MS"/>
              </a:rPr>
              <a:t>Role contamination (chronic inclusion of elements from other roles in a role, without being aware of 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318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18a"/>
                </a:solidFill>
                <a:latin typeface="Trebuchet MS"/>
              </a:rPr>
              <a:t>role habits and conventions (racke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3513-A97C-466C-9F14-D792243893A5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4098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016000" y="2133720"/>
            <a:ext cx="4969080" cy="39081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55640" y="333360"/>
            <a:ext cx="6912000" cy="576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Three Worlds model of person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8D93-7DCE-49AD-9253-B2B27B1FDF6E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6408720" cy="100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Roles and world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1773360"/>
            <a:ext cx="7056360" cy="38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Function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Connecting person with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Three worlds model – private, organizational and profession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Worlds could be different in number or definition, e.g. In the Four World model (Mohr, G. 2006), the community world as a category of its 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7DEF-B556-4077-8540-A71CD3AAEA5D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3T11:18:09Z</dcterms:created>
  <dc:creator>Institut für systemische Beratung</dc:creator>
  <dc:description/>
  <dc:language>en-US</dc:language>
  <cp:lastModifiedBy>Rona Rowe</cp:lastModifiedBy>
  <dcterms:modified xsi:type="dcterms:W3CDTF">2011-07-05T15:15:21Z</dcterms:modified>
  <cp:revision>427</cp:revision>
  <dc:subject/>
  <dc:title>PowerPoint-Präsentation</dc:title>
</cp:coreProperties>
</file>