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534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2200" y="0"/>
            <a:ext cx="2922840" cy="534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7000" y="763560"/>
            <a:ext cx="499104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6944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2200" y="9469440"/>
            <a:ext cx="29228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213ED-F2F0-4A74-B88B-F86A8EF61814}" type="slidenum"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88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psychologische Spezifikation von Transaktionen mit Hilfe des klassischen Ich-Zustands-Modells ergibt nur dann einen Sinn, wenn Kindheits-Fixierungen und Übertragungen aufgrund solcher Fixierungen beobachtet werden so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88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0C3-BE8E-4124-A2FE-0543521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0BD-DE2B-4540-A11D-254996D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02F-9C74-4CA1-8218-DA95338A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819-A572-4F5F-97C3-D2018501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9DF-C17B-4EC3-A012-1FA2042E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0C5-74A4-4C06-BD9C-1FDDEDA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6FC-E0C2-4260-97C5-0E4715C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CAA-6123-4504-B562-7601F90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F3E-4100-4D42-8F4B-62AD526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A69-8422-4EC6-9C91-0741144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B9A-8262-45AC-8D87-57C5D04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689-B9B8-4EBC-A590-35D3BE9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McGill_University" TargetMode="External"/><Relationship Id="rId2" Type="http://schemas.openxmlformats.org/officeDocument/2006/relationships/hyperlink" Target="http://de.wikipedia.org/wiki/1931" TargetMode="External"/><Relationship Id="rId3" Type="http://schemas.openxmlformats.org/officeDocument/2006/relationships/hyperlink" Target="http://de.wikipedia.org/wiki/1935" TargetMode="External"/><Relationship Id="rId4" Type="http://schemas.openxmlformats.org/officeDocument/2006/relationships/hyperlink" Target="http://de.wikipedia.org/wiki/Yale_University" TargetMode="External"/><Relationship Id="rId5" Type="http://schemas.openxmlformats.org/officeDocument/2006/relationships/hyperlink" Target="http://de.wikipedia.org/wiki/1938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 für systemische Beratung, Wiesloch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057400"/>
            <a:ext cx="746748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Systemische TA kompakt</a:t>
            </a: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</a:rPr>
              <a:t>Leitung: 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8a"/>
                </a:solidFill>
                <a:latin typeface="Trebuchet MS"/>
              </a:rPr>
              <a:t>25.-27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76728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klassische Bereiche de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56168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ch-Zuständ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Transaktio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Rackets/Spiel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Lebenspläne/Skript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rebuchet MS"/>
              </a:rPr>
              <a:t>Zuwendung/Rabattmarken -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rebuchet MS"/>
              </a:rPr>
              <a:t>Zeitstrukturierung “waiting for rigor mortis</a:t>
            </a: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TA is contractual and decisional”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12764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TA – Warum systemis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129440" cy="453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Systemisch ist mehr als Familientherapi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Ausbau der Wirklichkeitskonstruktiven Perspektiv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Hinzufügen von nichtpersönlichen Perspektiven von Wirklichkei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2. + 3. Schwa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Entwicklung eines allgemeinen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Ansatzes von Professionalitä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6520" y="-360"/>
            <a:ext cx="69994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Botschaft: Erfahrungen </a:t>
            </a:r>
            <a:r>
              <a:rPr b="1" lang="en-US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 Programm </a:t>
            </a:r>
            <a:br>
              <a:rPr sz="2800"/>
            </a:b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„In Ketten tanzen“ Nietzs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25040" cy="489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ogrammatische Erneuerung ohne Dogma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on der „Verkirchlichung“ zur Ur-Gemeinde (back to the garage – zum Dienstagsseminar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haltskonzepte, Methoden, Rollen und berufliche Szenarien als beispielhafte Konkretisierungen von professionellen Figuren verstehen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irklichkeit und Beziehungen, professionelles Handeln und Sinnbezüge situativ, spezifisch und mit aktueller Lebendigkeit für jede Situation neu entwerfen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Rahmen dafür entwickeln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70930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Vier Hauptperspekt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15920" y="162576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Persönlichkeit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Organisationsmuster der Persönlichkeit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Beziehungen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Organisationsmuster in Beziehung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Wirklichkeitskonstruktionen (Erleben und Verhalten als Ausdruck von und Beiträge zu Wirklichkeitsverständniss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Entwicklung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Erscheinungen vergangener, gegenwärtiger und künftiger Entwicklung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7164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Entbindung aus Tradition der Psychotherap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925040" cy="4941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8a"/>
                </a:solidFill>
                <a:latin typeface="Trebuchet MS"/>
              </a:rPr>
              <a:t>„</a:t>
            </a:r>
            <a:r>
              <a:rPr b="0" i="1" lang="en-US" sz="2400" spc="-1" strike="noStrike">
                <a:solidFill>
                  <a:srgbClr val="00318a"/>
                </a:solidFill>
                <a:latin typeface="Trebuchet MS"/>
              </a:rPr>
              <a:t>In der Nachfolge setzt sich gerne das Vokabular durch. Aus Erfahrung wird Dogma</a:t>
            </a: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.“ </a:t>
            </a:r>
            <a:r>
              <a:rPr b="0" lang="en-US" sz="1800" spc="-1" strike="noStrike">
                <a:solidFill>
                  <a:srgbClr val="00318a"/>
                </a:solidFill>
                <a:latin typeface="Trebuchet MS"/>
              </a:rPr>
              <a:t>Martin Walser</a:t>
            </a:r>
            <a:br>
              <a:rPr sz="1800"/>
            </a:b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Ursprünglich war das Strukturmodell der Ich-Zustände von Berne so angelegt, dass es in erster Linie dem klinischen Diagnostiker helfen sollte, seine Intuitionen zu symbolisieren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Es diente zunächst nur dazu, fixierte Kindheitserlebnisse, die das Hier und Jetzt beeinflussen, zu erfassen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8a"/>
                </a:solidFill>
                <a:latin typeface="Trebuchet MS"/>
              </a:rPr>
              <a:t>B.S.: Eine Neue TA ZTA 4/1990 + Intuition + Prof. Kap. 2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34364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issenschaftliche Berücksichtigung meines Beitrags zu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1440" y="1595520"/>
            <a:ext cx="792468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Therapiegeschichtlich zeichnet sich hier der Versuch ab, die Transaktionsanalyse für eine systemisch prozessuale Sichtweise zu öffnen und sie aus unreflektiert übernommenen psychoanalytischen Denktraditionen zu befreien.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Robert Baur 2006 S. 114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„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Sokratischer Dialog“ und hypnosystemische „Teilearbeit“ in Therapie und Beratung Dissertation Philosophisch-sozialwissenschaftliche Fakultät Uni Augsbur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567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Quintessenz der Arbeit von Baur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= ein Zitat von Bernd Schm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53720" y="166320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8a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„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Die Kompetenz zur Konzeptualisierung schließt das Verständnis der </a:t>
            </a:r>
            <a:r>
              <a:rPr b="1" lang="en-US" sz="2800" spc="-1" strike="noStrike">
                <a:solidFill>
                  <a:srgbClr val="002e8a"/>
                </a:solidFill>
                <a:latin typeface="Trebuchet MS"/>
              </a:rPr>
              <a:t>Implikationen und Konsequenzen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der gewählten </a:t>
            </a:r>
            <a:r>
              <a:rPr b="1" lang="en-US" sz="2800" spc="-1" strike="noStrike">
                <a:solidFill>
                  <a:srgbClr val="002e8a"/>
                </a:solidFill>
                <a:latin typeface="Trebuchet MS"/>
              </a:rPr>
              <a:t>Konzepte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ein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Das Verständnis der impliziten Annahmen, der Logik ihrer Verknüpfung sowie der aus ihnen abgeleiteten Konsequenzen macht aus Erfahrungen von gestern geistige Arbeitsmittel für morgen.“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e8a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002e8a"/>
                </a:solidFill>
                <a:latin typeface="Trebuchet MS"/>
              </a:rPr>
              <a:t>Bernd Schmid: Professionelle Kompetenz für Transaktionsanalytiker 1987 (auch Bd. 1 1994 S.115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56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Entbindung aus Psychotherapi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9680" y="16776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Entbindung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pathologischer Sichtweis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i="1" lang="de-DE" sz="3200" spc="-1" strike="noStrike">
                <a:solidFill>
                  <a:srgbClr val="003399"/>
                </a:solidFill>
                <a:latin typeface="Trebuchet MS"/>
              </a:rPr>
              <a:t>Bsp. Konfrontation von Redefinitio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entwicklungspsychologischer Zwangseh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Bsp. Strukturmodell der Persönlichkei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ausschließlich psychologischer Sichtweise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multidisziplinärer Ansatz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Professionenübergreifender An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822320"/>
            <a:ext cx="7924680" cy="5035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einfach additiv, sondern neue Architektur, nicht + good scripts sondern scripts als Lebensentwürfe, good + bad,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good games, sonder game als kokreative Wirklichkeitsschöpfung good or bad,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auch Organisationsfaktoren neben Psychologie, sondern freie Wahl und Kombination der Betrachtungsperspektive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praktisch, sondern auch programmatisch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(Lösung vom Primat der klinischen TA)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bstraktion von Grundfiguren der TA hinter Konzepten und Vorgehensweisen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sp. Spie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Kreativer Ansatz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sp. positive Lebensentwürf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Ebenen der Neufassung von TA aus systemischer Perspek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42976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Konzeptionalisierung + Methodik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„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Meta-Professionalität“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Gesellschaftsbezogenes Menschen- und Wirklichkeitsbil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dentität als TA‘ler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iterbildungssystem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erbandspolitik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TA als Beispiel einer Schulentwicklung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cc0000"/>
                </a:solidFill>
                <a:latin typeface="Trebuchet MS"/>
              </a:rPr>
              <a:t>Systemische Professionalität + TA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(2004) EHP Bd 1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cc0000"/>
                </a:solidFill>
                <a:latin typeface="Trebuchet MS"/>
              </a:rPr>
              <a:t>Intuition + Professionalität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 (2008) Carl Auer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Warum Systemische T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402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rebuchet MS"/>
              </a:rPr>
              <a:t>Es geht nicht darum, die Welt neu zu erfinden, sondern sie neu zu beleuchten.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rebuchet MS"/>
              </a:rPr>
              <a:t>Der große Kampf geht um die Anschauung der Dinge. 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Durs Grünbe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ahoma"/>
              </a:rPr>
              <a:t>Eric Berne   -L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383840"/>
            <a:ext cx="8604360" cy="56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wurde am 10. Mai 1910 als Eric Lennard Bernstein in Montréal in Kanada geboren. Er war der Sohn des Mediziners David und der Journalistin Sara Gordon Bernstein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besuchte die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McGill University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in Montréal, an der er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1931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graduierte und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1935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den Dr. med. erwarb. Nach dem Abschluss nahm er ein Praktikum in Psychiatrie an der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Yale University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uf, wo er bei Dr. Paul Federn Psychoanalyse studierte. Er schloss seine Ausbildung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1938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b und wurde 1939 amerikanischer Staatsbürger. 1943 änderte er seinen Namen in Eric Berne. In den 60er Jahren schaffte er den schriftstellerischen Durchbruch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war von 1942 bis 1945 mit Elinor McRae (zwei Kinder), von 1949 bis 1964 mit Dorothy DeMass Way (zwei Kinder) und von 1967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bis 1970 mit Torre Peterson verheiratet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er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924680" cy="544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Transaktionsanalyse der Intuition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4. Auflage. Junfermann, Paderborn 2005, ISBN 978-3-87387-003-1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Die Transaktionsanalyse in der Psychotherapie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2. Auflage. Junfermann, Paderborn 2006, ISBN 978-3-87387-423-7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Grundlagen der Gruppenbehandlu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1. Auflage. Junfermann, Paderborn 2005, ISBN 978-3-87387-424-4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The mind in action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Simon &amp; Schuster, New York 1947.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Games People Play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Grove Press Inc., New-York 1964, ISBN               0-3...       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piele der Erwachsenen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Rowohlt, Reinbek 1970. rororo, ISBN 3-4996-1350-6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ex in Human Lovi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1971.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pielarten und Spielregeln der Liebe. Psychologische Analyse der Partnerbeziehu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Aus dem Amerikan. übertr. von Edelgard und Gerd Stöhr. Rowohlt, Reinbek 1994, ISBN 3-4991-6848-0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What Do You Say After You Say Hello?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Transworld Publ. Ltd UK, 1972, ISBN 0-5520-9806-X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Was sagen Sie, nachdem Sie Guten Tag gesagt haben?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Fischer, ISBN 3-5964-2192-6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Nicht </a:t>
            </a:r>
            <a:r>
              <a:rPr b="1" lang="en-US" sz="3200" spc="-1" strike="noStrike" u="sng">
                <a:solidFill>
                  <a:srgbClr val="002e8a"/>
                </a:solidFill>
                <a:uFillTx/>
                <a:latin typeface="Trebuchet MS"/>
              </a:rPr>
              <a:t>di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 TA, sondern </a:t>
            </a:r>
            <a:r>
              <a:rPr b="1" lang="en-US" sz="3200" spc="-1" strike="noStrike" u="sng">
                <a:solidFill>
                  <a:srgbClr val="002e8a"/>
                </a:solidFill>
                <a:uFillTx/>
                <a:latin typeface="Trebuchet MS"/>
              </a:rPr>
              <a:t>mein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60668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Bewahrung von vielen guten Ideen, die ohne die klinische Tradition der TA nützlich sind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Neuformulierungen aus systemischer Sich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Weiterentwicklung/Neuentwicklungen von Konzept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Keine Lehre von TA, sondern Verständnis und Interesse weck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8276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Prioritä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84200"/>
            <a:ext cx="8532720" cy="528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Darstellung durch Vortrag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Nicht Lehre: „Wetterflug“, nicht „Wanderung“ (nur gelegentliche „Landung“ für beispielhafte Ortserkundung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Verweis auf weitere Lern- und Studienmöglichkeit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sentliche Fragen + Antworten markier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Kontexte und Einbettungen herausstell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itere Entwicklungen und Transfer markier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Merkpunkte 1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 meiner TA-Geschich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383840"/>
            <a:ext cx="8675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6 Start TA-Ausbildung Heidelber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6 TA-conference San Francisco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9 klinisches Examen Aix-en-Provenc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85 Lehrtrainer-Examen Barcelona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-----------------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86 EATA- Wissenschaftspreis (Dilemma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2007 Eric-Berne Memorial Award San Francisco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(Rollenkonzept)  (beantragt von Günther Mohr, befürwortet von Fanita English, San Francisco und  von Sevaas van Beekum, Sidney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Merkpunkte 2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meiner TA-Geschich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6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1981 Erster Entwurf für neue Prüfungs-Ordnung (erst DGTA, später EATA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langjährig Vorsitzender des Weiterbildungs- und Prüfungsausschusses DGTA (mit Hans Jellouscheck, Ilse Brab, Angelika Glöckner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nsgesamt mehr als 2 Duzend erfolgreiche Prüflinge Level I und 3-4 Level II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Mit Leonard Schlegel meisten Beiträge in ZTA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Meine TA-Lehrer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83840"/>
            <a:ext cx="8459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ponsoren: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Arlene Moore (Level 1), Rüdiger Rogoll (Level 2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LehrerInnen: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Bill Holloway (Theorie + Intuition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Business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Mike Brown (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Milton Erickson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Fanita English (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TA unkonvertionell, kreativ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Jacqui Schiff – Shea Schiff (Reparenting school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Richard Erskine (George Kohlrieser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Ruth McLendon /Les Kadis (TA-Familientherapie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Bob + Mary Gloulding  (Redecision school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Und viele andere, auch meiner Genera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Wie habe ich TA 1976 angetroff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168876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Psychoanalyse/Jung/Adl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Gruppendynamik/ Rogers/Reich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Gestalt</a:t>
            </a:r>
            <a:r>
              <a:rPr b="0" i="1" lang="de-DE" sz="2800" spc="-1" strike="noStrike">
                <a:solidFill>
                  <a:srgbClr val="003399"/>
                </a:solidFill>
                <a:latin typeface="Trebuchet MS"/>
              </a:rPr>
              <a:t>: Ich und Du im Hier und jetz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rlebnis- und Theorie- orientier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ielfalt: geleitete Phantasien und differenzierte Theorie (Bsp. Bill Holloway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eue Entwicklungen: Redecision (Bob + Mary Goulding) Reparenting (Jacqui Schiff et al.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Szenenstil: Persönlich + unkonventionell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2007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urzeln und Strömungen de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73052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tuitionsstudi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agmatische Erweiterung der Psychoanalyse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Real people, real life situations  “</a:t>
            </a:r>
            <a:r>
              <a:rPr b="0" i="1" lang="en-GB" sz="2800" spc="-1" strike="noStrike">
                <a:solidFill>
                  <a:srgbClr val="003399"/>
                </a:solidFill>
                <a:latin typeface="Trebuchet MS"/>
              </a:rPr>
              <a:t>I never saw an ID walking!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Trebuchet MS"/>
              </a:rPr>
              <a:t>First cure then analys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Gruppentherapie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antithetische Begegnun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social psychiatry + andere Anwendungsbereiche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Dr. Bernd Schmid</cp:lastModifiedBy>
  <dcterms:modified xsi:type="dcterms:W3CDTF">2009-07-08T16:35:50Z</dcterms:modified>
  <cp:revision>347</cp:revision>
  <dc:subject/>
  <dc:title>PowerPoint-Präsentation</dc:title>
</cp:coreProperties>
</file>