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98800" cy="5349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rebuchet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922200" y="0"/>
            <a:ext cx="2922840" cy="5349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1" lang="de-DE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927000" y="763560"/>
            <a:ext cx="4991040" cy="374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21960" y="4735080"/>
            <a:ext cx="5000760" cy="4429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9469440"/>
            <a:ext cx="29988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1" lang="de-DE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922200" y="9469440"/>
            <a:ext cx="29228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1" lang="de-DE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3C74A3-9B56-4550-B4A1-EFB08FEA7796}" type="slidenum">
              <a:rPr b="1" lang="de-DE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28800" y="763560"/>
            <a:ext cx="4987800" cy="37418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21960" y="4735080"/>
            <a:ext cx="5000760" cy="4429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e psychologische Spezifikation von Transaktionen mit Hilfe des klassischen Ich-Zustands-Modells ergibt nur dann einen Sinn, wenn Kindheits-Fixierungen und Übertragungen aufgrund solcher Fixierungen beobachtet werden soll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28800" y="763560"/>
            <a:ext cx="4987800" cy="37418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21960" y="4735080"/>
            <a:ext cx="5000760" cy="4429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Rich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FE89-962F-476F-A443-BD4F20B5A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8960" y="1383840"/>
            <a:ext cx="792468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8960" y="3765600"/>
            <a:ext cx="792468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6405-29E1-4D9B-A2F1-2E9979256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8960" y="1383840"/>
            <a:ext cx="386712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79760" y="1383840"/>
            <a:ext cx="386712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8960" y="3765600"/>
            <a:ext cx="386712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79760" y="3765600"/>
            <a:ext cx="386712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7EBA-33B2-4736-AD00-AEB98CE7E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8960" y="1383840"/>
            <a:ext cx="255168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8440" y="1383840"/>
            <a:ext cx="255168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78280" y="1383840"/>
            <a:ext cx="255168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8960" y="3765600"/>
            <a:ext cx="255168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8440" y="3765600"/>
            <a:ext cx="255168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78280" y="3765600"/>
            <a:ext cx="255168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BBDB-217C-407F-A1D1-3409E8BFB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8960" y="1383840"/>
            <a:ext cx="7924680" cy="45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62BD-8FEE-45C3-ADFB-07637FC7F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8960" y="1383840"/>
            <a:ext cx="7924680" cy="45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6A99-1D87-48A8-B415-4F7B8E467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8960" y="1383840"/>
            <a:ext cx="3867120" cy="45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79760" y="1383840"/>
            <a:ext cx="3867120" cy="45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EA96-8BD3-48BC-B283-B69415C7D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F026-7F28-4476-81B5-2E1C716B2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8960" y="-360"/>
            <a:ext cx="7924680" cy="63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37A4-977C-48D6-A1E2-514F6A88D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8960" y="1383840"/>
            <a:ext cx="386712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9760" y="1383840"/>
            <a:ext cx="3867120" cy="45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8960" y="3765600"/>
            <a:ext cx="386712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D151-2F9F-4EEA-AC74-7A2E74104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8960" y="1383840"/>
            <a:ext cx="3867120" cy="45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79760" y="1383840"/>
            <a:ext cx="386712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79760" y="3765600"/>
            <a:ext cx="386712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CF7B-C30C-4671-8EDB-771A87CC7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8960" y="1383840"/>
            <a:ext cx="386712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79760" y="1383840"/>
            <a:ext cx="386712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8960" y="3765600"/>
            <a:ext cx="792468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4343-B219-43DA-8A45-01A207A0B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359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1932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218960" y="1383840"/>
            <a:ext cx="7924680" cy="4559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3399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3399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"/>
          <p:cNvSpPr/>
          <p:nvPr/>
        </p:nvSpPr>
        <p:spPr>
          <a:xfrm>
            <a:off x="0" y="27907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3812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7848720" y="76320"/>
            <a:ext cx="1218960" cy="1217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isb-w.de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de.wikipedia.org/wiki/McGill_University" TargetMode="External"/><Relationship Id="rId2" Type="http://schemas.openxmlformats.org/officeDocument/2006/relationships/hyperlink" Target="http://de.wikipedia.org/wiki/1931" TargetMode="External"/><Relationship Id="rId3" Type="http://schemas.openxmlformats.org/officeDocument/2006/relationships/hyperlink" Target="http://de.wikipedia.org/wiki/1935" TargetMode="External"/><Relationship Id="rId4" Type="http://schemas.openxmlformats.org/officeDocument/2006/relationships/hyperlink" Target="http://de.wikipedia.org/wiki/Yale_University" TargetMode="External"/><Relationship Id="rId5" Type="http://schemas.openxmlformats.org/officeDocument/2006/relationships/hyperlink" Target="http://de.wikipedia.org/wiki/1938" TargetMode="External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800600" y="1447920"/>
            <a:ext cx="43434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6006960"/>
            <a:ext cx="806436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24600"/>
            <a:ext cx="8686800" cy="833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e8a"/>
                </a:solidFill>
                <a:latin typeface="Trebuchet MS"/>
                <a:ea typeface="Arial"/>
              </a:rPr>
              <a:t>Institut für systemische Beratung, Wiesloch</a:t>
            </a:r>
            <a:r>
              <a:rPr b="1" lang="en-US" sz="1800" spc="-1" strike="noStrike">
                <a:solidFill>
                  <a:srgbClr val="002e8a"/>
                </a:solidFill>
                <a:latin typeface="Century Gothic"/>
                <a:ea typeface="Arial"/>
              </a:rPr>
              <a:t>	</a:t>
            </a:r>
            <a:r>
              <a:rPr b="1" lang="en-US" sz="1800" spc="-1" strike="noStrike">
                <a:solidFill>
                  <a:srgbClr val="002e8a"/>
                </a:solidFill>
                <a:latin typeface="Century Gothic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Century Gothic"/>
                <a:ea typeface="Arial"/>
                <a:hlinkClick r:id="rId1"/>
              </a:rPr>
              <a:t>www.isb-w.de</a:t>
            </a:r>
            <a:r>
              <a:rPr b="0" lang="en-US" sz="1400" spc="-1" strike="noStrike" u="sng">
                <a:solidFill>
                  <a:srgbClr val="002e8a"/>
                </a:solidFill>
                <a:uFillTx/>
                <a:latin typeface="Century Gothic"/>
                <a:ea typeface="Arial"/>
              </a:rPr>
              <a:t>	</a:t>
            </a:r>
            <a:r>
              <a:rPr b="0" lang="en-US" sz="1400" spc="-1" strike="noStrike" u="sng">
                <a:solidFill>
                  <a:srgbClr val="002e8a"/>
                </a:solidFill>
                <a:uFillTx/>
                <a:latin typeface="Century Gothic"/>
                <a:ea typeface="Arial"/>
              </a:rPr>
              <a:t>	</a:t>
            </a:r>
            <a:r>
              <a:rPr b="0" lang="en-US" sz="1400" spc="-1" strike="noStrike" u="sng">
                <a:solidFill>
                  <a:srgbClr val="002e8a"/>
                </a:solidFill>
                <a:uFillTx/>
                <a:latin typeface="Century Gothic"/>
                <a:ea typeface="Arial"/>
              </a:rPr>
              <a:t>	</a:t>
            </a:r>
            <a:r>
              <a:rPr b="0" lang="en-US" sz="1400" spc="-1" strike="noStrike" u="sng">
                <a:solidFill>
                  <a:srgbClr val="002e8a"/>
                </a:solidFill>
                <a:uFillTx/>
                <a:latin typeface="Century Gothic"/>
                <a:ea typeface="Arial"/>
              </a:rPr>
              <a:t>	</a:t>
            </a:r>
            <a:r>
              <a:rPr b="0" lang="en-US" sz="1400" spc="-1" strike="noStrike" u="sng">
                <a:solidFill>
                  <a:srgbClr val="002e8a"/>
                </a:solidFill>
                <a:uFillTx/>
                <a:latin typeface="Century Gothic"/>
                <a:ea typeface="Arial"/>
              </a:rPr>
              <a:t>	</a:t>
            </a:r>
            <a:r>
              <a:rPr b="0" lang="en-US" sz="1400" spc="-1" strike="noStrike" u="sng">
                <a:solidFill>
                  <a:srgbClr val="002e8a"/>
                </a:solidFill>
                <a:uFillTx/>
                <a:latin typeface="Century Gothic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40984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2057400"/>
            <a:ext cx="7467480" cy="266688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2e8a"/>
                </a:solidFill>
                <a:latin typeface="Trebuchet MS"/>
              </a:rPr>
              <a:t>Systemische TA kompakt</a:t>
            </a:r>
            <a:br>
              <a:rPr sz="3600"/>
            </a:br>
            <a:r>
              <a:rPr b="1" lang="en-US" sz="3600" spc="-1" strike="noStrike">
                <a:solidFill>
                  <a:srgbClr val="002e8a"/>
                </a:solidFill>
                <a:latin typeface="Trebuchet MS"/>
              </a:rPr>
              <a:t>Einführu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e8a"/>
                </a:solidFill>
                <a:latin typeface="Trebuchet MS"/>
              </a:rPr>
              <a:t>Leitung: Dr. Bernd Schm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e8a"/>
                </a:solidFill>
                <a:latin typeface="Trebuchet MS"/>
              </a:rPr>
              <a:t>25.-27.06.20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6767280" cy="1358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e8a"/>
                </a:solidFill>
                <a:latin typeface="Trebuchet MS"/>
              </a:rPr>
              <a:t>klassische Bereiche der 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18960" y="1561680"/>
            <a:ext cx="7924680" cy="4559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99"/>
                </a:solidFill>
                <a:latin typeface="Trebuchet MS"/>
              </a:rPr>
              <a:t>Ich-Zustände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99"/>
                </a:solidFill>
                <a:latin typeface="Trebuchet MS"/>
              </a:rPr>
              <a:t>Transaktionen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99"/>
                </a:solidFill>
                <a:latin typeface="Trebuchet MS"/>
              </a:rPr>
              <a:t>Rackets/Spiele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99"/>
                </a:solidFill>
                <a:latin typeface="Trebuchet MS"/>
              </a:rPr>
              <a:t>Lebenspläne/Skripts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Trebuchet MS"/>
              </a:rPr>
              <a:t>Zuwendung/Rabattmarken -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Trebuchet MS"/>
              </a:rPr>
              <a:t>Zeitstrukturierung “waiting for rigor mortis</a:t>
            </a:r>
            <a:r>
              <a:rPr b="0" lang="en-GB" sz="3200" spc="-1" strike="noStrike">
                <a:solidFill>
                  <a:srgbClr val="003399"/>
                </a:solidFill>
                <a:latin typeface="Tahoma"/>
              </a:rPr>
              <a:t>”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Tahoma"/>
              </a:rPr>
              <a:t>“</a:t>
            </a:r>
            <a:r>
              <a:rPr b="0" lang="en-GB" sz="3200" spc="-1" strike="noStrike">
                <a:solidFill>
                  <a:srgbClr val="003399"/>
                </a:solidFill>
                <a:latin typeface="Tahoma"/>
              </a:rPr>
              <a:t>TA is contractual and decisional”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7127640" cy="1358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18a"/>
                </a:solidFill>
                <a:latin typeface="Trebuchet MS"/>
              </a:rPr>
              <a:t>TA – Warum systemisch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129440" cy="4535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rebuchet MS"/>
              </a:rPr>
              <a:t>Systemisch ist mehr als Familientherapie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rebuchet MS"/>
              </a:rPr>
              <a:t>Ausbau der Wirklichkeitskonstruktiven Perspektive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rebuchet MS"/>
              </a:rPr>
              <a:t>Hinzufügen von nichtpersönlichen Perspektiven von Wirklichkeit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rebuchet MS"/>
              </a:rPr>
              <a:t>2. + 3. Schwan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rebuchet MS"/>
              </a:rPr>
              <a:t>Entwicklung eines allgemeinen 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Trebuchet MS"/>
              </a:rPr>
              <a:t>Ansatzes von Professionalität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6520" y="-360"/>
            <a:ext cx="6999480" cy="1359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18a"/>
                </a:solidFill>
                <a:latin typeface="Trebuchet MS"/>
              </a:rPr>
              <a:t>Botschaft: Erfahrungen </a:t>
            </a:r>
            <a:r>
              <a:rPr b="1" lang="en-US" sz="2800" spc="-1" strike="noStrike">
                <a:solidFill>
                  <a:srgbClr val="00318a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318a"/>
                </a:solidFill>
                <a:latin typeface="Trebuchet MS"/>
              </a:rPr>
              <a:t> Programm </a:t>
            </a:r>
            <a:br>
              <a:rPr sz="2800"/>
            </a:br>
            <a:r>
              <a:rPr b="1" lang="en-US" sz="2800" spc="-1" strike="noStrike">
                <a:solidFill>
                  <a:srgbClr val="00318a"/>
                </a:solidFill>
                <a:latin typeface="Trebuchet MS"/>
              </a:rPr>
              <a:t>„In Ketten tanzen“ Nietzsch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925040" cy="4896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Programmatische Erneuerung ohne Dogma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Von der „Verkirchlichung“ zur Ur-Gemeinde (back to the garage – zum Dienstagsseminar)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Inhaltskonzepte, Methoden, Rollen und berufliche Szenarien als beispielhafte Konkretisierungen von professionellen Figuren verstehen!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Wirklichkeit und Beziehungen, professionelles Handeln und Sinnbezüge situativ, spezifisch und mit aktueller Lebendigkeit für jede Situation neu entwerfen!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Rahmen dafür entwickeln 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7093080" cy="1359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18a"/>
                </a:solidFill>
                <a:latin typeface="Trebuchet MS"/>
              </a:rPr>
              <a:t>Vier Hauptperspektiv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15920" y="1625760"/>
            <a:ext cx="7925040" cy="45590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rebuchet MS"/>
              </a:rPr>
              <a:t>die Perspektive der Persönlichkeit 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Trebuchet MS"/>
              </a:rPr>
              <a:t>(Erleben und Verhalten als Organisationsmuster der Persönlichkeit)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Trebuchet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rebuchet MS"/>
              </a:rPr>
              <a:t>die Perspektive der Beziehungen 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Trebuchet MS"/>
              </a:rPr>
              <a:t>(Erleben und Verhalten als Organisationsmuster in Beziehungen)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Trebuchet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rebuchet MS"/>
              </a:rPr>
              <a:t>die Perspektive der Wirklichkeitskonstruktionen (Erleben und Verhalten als Ausdruck von und Beiträge zu Wirklichkeitsverständnissen)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Trebuchet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rebuchet MS"/>
              </a:rPr>
              <a:t>die Perspektive der Entwicklung 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Trebuchet MS"/>
              </a:rPr>
              <a:t>(Erleben und Verhalten als Erscheinungen vergangener, gegenwärtiger und künftiger Entwicklungen)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7164360" cy="1359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e8a"/>
                </a:solidFill>
                <a:latin typeface="Trebuchet MS"/>
              </a:rPr>
              <a:t>Entbindung aus Tradition der Psychotherapi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6920" y="1557000"/>
            <a:ext cx="7925040" cy="49417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8a"/>
                </a:solidFill>
                <a:latin typeface="Trebuchet MS"/>
              </a:rPr>
              <a:t>„</a:t>
            </a:r>
            <a:r>
              <a:rPr b="0" i="1" lang="en-US" sz="2400" spc="-1" strike="noStrike">
                <a:solidFill>
                  <a:srgbClr val="00318a"/>
                </a:solidFill>
                <a:latin typeface="Trebuchet MS"/>
              </a:rPr>
              <a:t>In der Nachfolge setzt sich gerne das Vokabular durch. Aus Erfahrung wird Dogma</a:t>
            </a:r>
            <a:r>
              <a:rPr b="0" lang="en-US" sz="2400" spc="-1" strike="noStrike">
                <a:solidFill>
                  <a:srgbClr val="00318a"/>
                </a:solidFill>
                <a:latin typeface="Trebuchet MS"/>
              </a:rPr>
              <a:t>.“ </a:t>
            </a:r>
            <a:r>
              <a:rPr b="0" lang="en-US" sz="1800" spc="-1" strike="noStrike">
                <a:solidFill>
                  <a:srgbClr val="00318a"/>
                </a:solidFill>
                <a:latin typeface="Trebuchet MS"/>
              </a:rPr>
              <a:t>Martin Walser</a:t>
            </a:r>
            <a:br>
              <a:rPr sz="1800"/>
            </a:b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18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18a"/>
                </a:solidFill>
                <a:latin typeface="Trebuchet MS"/>
              </a:rPr>
              <a:t>Ursprünglich war das Strukturmodell der Ich-Zustände von Berne so angelegt, dass es in erster Linie dem klinischen Diagnostiker helfen sollte, seine Intuitionen zu symbolisieren. 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18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18a"/>
                </a:solidFill>
                <a:latin typeface="Trebuchet MS"/>
              </a:rPr>
              <a:t>Es diente zunächst nur dazu, fixierte Kindheitserlebnisse, die das Hier und Jetzt beeinflussen, zu erfassen.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18a"/>
                </a:solidFill>
                <a:latin typeface="Trebuchet MS"/>
              </a:rPr>
              <a:t>B.S.: Eine Neue TA ZTA 4/1990 + Intuition + Prof. Kap. 2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343640" cy="1358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18a"/>
                </a:solidFill>
                <a:latin typeface="Trebuchet MS"/>
              </a:rPr>
              <a:t>Wissenschaftliche Berücksichtigung meines Beitrags zur 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01440" y="1595520"/>
            <a:ext cx="7924680" cy="45590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„</a:t>
            </a:r>
            <a:r>
              <a:rPr b="0" lang="en-US" sz="3200" spc="-1" strike="noStrike">
                <a:solidFill>
                  <a:srgbClr val="003399"/>
                </a:solidFill>
                <a:latin typeface="Trebuchet MS"/>
              </a:rPr>
              <a:t>Therapiegeschichtlich zeichnet sich hier der Versuch ab, die Transaktionsanalyse für eine systemisch prozessuale Sichtweise zu öffnen und sie aus unreflektiert übernommenen psychoanalytischen Denktraditionen zu befreien. </a:t>
            </a:r>
            <a:r>
              <a:rPr b="0" lang="en-US" sz="2000" spc="-1" strike="noStrike">
                <a:solidFill>
                  <a:srgbClr val="003399"/>
                </a:solidFill>
                <a:latin typeface="Trebuchet MS"/>
              </a:rPr>
              <a:t>Robert Baur 2006 S. 114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rebuchet MS"/>
              </a:rPr>
              <a:t>„</a:t>
            </a:r>
            <a:r>
              <a:rPr b="0" lang="en-US" sz="2000" spc="-1" strike="noStrike">
                <a:solidFill>
                  <a:srgbClr val="003399"/>
                </a:solidFill>
                <a:latin typeface="Trebuchet MS"/>
              </a:rPr>
              <a:t>Sokratischer Dialog“ und hypnosystemische „Teilearbeit“ in Therapie und Beratung Dissertation Philosophisch-sozialwissenschaftliche Fakultät Uni Augsburg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056720" cy="1359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18a"/>
                </a:solidFill>
                <a:latin typeface="Trebuchet MS"/>
              </a:rPr>
              <a:t>Quintessenz der Arbeit von Baur</a:t>
            </a:r>
            <a:br>
              <a:rPr sz="3200"/>
            </a:br>
            <a:r>
              <a:rPr b="1" lang="en-US" sz="3200" spc="-1" strike="noStrike">
                <a:solidFill>
                  <a:srgbClr val="00318a"/>
                </a:solidFill>
                <a:latin typeface="Trebuchet MS"/>
              </a:rPr>
              <a:t>= ein Zitat von Bernd Schm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53720" y="1663200"/>
            <a:ext cx="7924680" cy="4559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e8a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2e8a"/>
                </a:solidFill>
                <a:latin typeface="Trebuchet MS"/>
              </a:rPr>
              <a:t>„</a:t>
            </a:r>
            <a:r>
              <a:rPr b="0" lang="en-US" sz="2800" spc="-1" strike="noStrike">
                <a:solidFill>
                  <a:srgbClr val="002e8a"/>
                </a:solidFill>
                <a:latin typeface="Trebuchet MS"/>
              </a:rPr>
              <a:t>Die Kompetenz zur Konzeptualisierung schließt das Verständnis der </a:t>
            </a:r>
            <a:r>
              <a:rPr b="1" lang="en-US" sz="2800" spc="-1" strike="noStrike">
                <a:solidFill>
                  <a:srgbClr val="002e8a"/>
                </a:solidFill>
                <a:latin typeface="Trebuchet MS"/>
              </a:rPr>
              <a:t>Implikationen und Konsequenzen</a:t>
            </a:r>
            <a:r>
              <a:rPr b="0" lang="en-US" sz="2800" spc="-1" strike="noStrike">
                <a:solidFill>
                  <a:srgbClr val="002e8a"/>
                </a:solidFill>
                <a:latin typeface="Trebuchet MS"/>
              </a:rPr>
              <a:t> der gewählten </a:t>
            </a:r>
            <a:r>
              <a:rPr b="1" lang="en-US" sz="2800" spc="-1" strike="noStrike">
                <a:solidFill>
                  <a:srgbClr val="002e8a"/>
                </a:solidFill>
                <a:latin typeface="Trebuchet MS"/>
              </a:rPr>
              <a:t>Konzepte</a:t>
            </a:r>
            <a:r>
              <a:rPr b="0" lang="en-US" sz="2800" spc="-1" strike="noStrike">
                <a:solidFill>
                  <a:srgbClr val="002e8a"/>
                </a:solidFill>
                <a:latin typeface="Trebuchet MS"/>
              </a:rPr>
              <a:t> ein. 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e8a"/>
                </a:solidFill>
                <a:latin typeface="Trebuchet MS"/>
              </a:rPr>
              <a:t>   </a:t>
            </a:r>
            <a:r>
              <a:rPr b="0" lang="en-US" sz="2800" spc="-1" strike="noStrike">
                <a:solidFill>
                  <a:srgbClr val="002e8a"/>
                </a:solidFill>
                <a:latin typeface="Trebuchet MS"/>
              </a:rPr>
              <a:t>Das Verständnis der impliziten Annahmen, der Logik ihrer Verknüpfung sowie der aus ihnen abgeleiteten Konsequenzen macht aus Erfahrungen von gestern geistige Arbeitsmittel für morgen.“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e8a"/>
                </a:solidFill>
                <a:latin typeface="Trebuchet MS"/>
              </a:rPr>
              <a:t>	</a:t>
            </a:r>
            <a:r>
              <a:rPr b="0" i="1" lang="en-US" sz="2000" spc="-1" strike="noStrike">
                <a:solidFill>
                  <a:srgbClr val="002e8a"/>
                </a:solidFill>
                <a:latin typeface="Trebuchet MS"/>
              </a:rPr>
              <a:t>Bernd Schmid: Professionelle Kompetenz für Transaktionsanalytiker 1987 (auch Bd. 1 1994 S.115)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56360" cy="1359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18a"/>
                </a:solidFill>
                <a:latin typeface="Trebuchet MS"/>
              </a:rPr>
              <a:t>Entbindung aus Psychotherapi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39680" y="1677600"/>
            <a:ext cx="7925040" cy="4559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99"/>
                </a:solidFill>
                <a:latin typeface="Trebuchet MS"/>
              </a:rPr>
              <a:t>Entbindung 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99"/>
                </a:solidFill>
                <a:latin typeface="Trebuchet MS"/>
              </a:rPr>
              <a:t>aus pathologischer Sichtweise 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i="1" lang="de-DE" sz="3200" spc="-1" strike="noStrike">
                <a:solidFill>
                  <a:srgbClr val="003399"/>
                </a:solidFill>
                <a:latin typeface="Trebuchet MS"/>
              </a:rPr>
              <a:t>Bsp. Konfrontation von Redefinition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99"/>
                </a:solidFill>
                <a:latin typeface="Trebuchet MS"/>
              </a:rPr>
              <a:t>aus entwicklungspsychologischer Zwangsehe 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de-DE" sz="3200" spc="-1" strike="noStrike">
                <a:solidFill>
                  <a:srgbClr val="003399"/>
                </a:solidFill>
                <a:latin typeface="Trebuchet MS"/>
              </a:rPr>
              <a:t>Bsp. Strukturmodell der Persönlichkeit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99"/>
                </a:solidFill>
                <a:latin typeface="Trebuchet MS"/>
              </a:rPr>
              <a:t>aus ausschließlich psychologischer Sichtweise </a:t>
            </a:r>
            <a:r>
              <a:rPr b="0" lang="de-DE" sz="3200" spc="-1" strike="noStrike">
                <a:solidFill>
                  <a:srgbClr val="003399"/>
                </a:solidFill>
                <a:latin typeface="Wingdings"/>
                <a:ea typeface="Wingdings"/>
              </a:rPr>
              <a:t></a:t>
            </a:r>
            <a:r>
              <a:rPr b="0" lang="de-DE" sz="3200" spc="-1" strike="noStrike">
                <a:solidFill>
                  <a:srgbClr val="003399"/>
                </a:solidFill>
                <a:latin typeface="Trebuchet MS"/>
              </a:rPr>
              <a:t> multidisziplinärer Ansatz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7272360" cy="1359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18a"/>
                </a:solidFill>
                <a:latin typeface="Wingdings"/>
                <a:ea typeface="Wingdings"/>
              </a:rPr>
              <a:t></a:t>
            </a:r>
            <a:r>
              <a:rPr b="1" lang="de-DE" sz="3200" spc="-1" strike="noStrike">
                <a:solidFill>
                  <a:srgbClr val="00318a"/>
                </a:solidFill>
                <a:latin typeface="Trebuchet MS"/>
              </a:rPr>
              <a:t>Professionenübergreifender Ansatz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5280" y="1822320"/>
            <a:ext cx="7924680" cy="50356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99"/>
                </a:solidFill>
                <a:latin typeface="Trebuchet MS"/>
              </a:rPr>
              <a:t>Nicht einfach additiv, sondern neue Architektur, nicht + good scripts sondern scripts als Lebensentwürfe, good + bad, 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de-DE" sz="2400" spc="-1" strike="noStrike">
                <a:solidFill>
                  <a:srgbClr val="003399"/>
                </a:solidFill>
                <a:latin typeface="Trebuchet MS"/>
              </a:rPr>
              <a:t>nicht nur good games, sonder game als kokreative Wirklichkeitsschöpfung good or bad,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de-DE" sz="2400" spc="-1" strike="noStrike">
                <a:solidFill>
                  <a:srgbClr val="003399"/>
                </a:solidFill>
                <a:latin typeface="Trebuchet MS"/>
              </a:rPr>
              <a:t>nicht nur auch Organisationsfaktoren neben Psychologie, sondern freie Wahl und Kombination der Betrachtungsperspektiven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99"/>
                </a:solidFill>
                <a:latin typeface="Trebuchet MS"/>
              </a:rPr>
              <a:t>nicht nur praktisch, sondern auch programmatisch 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de-DE" sz="2400" spc="-1" strike="noStrike">
                <a:solidFill>
                  <a:srgbClr val="003399"/>
                </a:solidFill>
                <a:latin typeface="Trebuchet MS"/>
              </a:rPr>
              <a:t>(Lösung vom Primat der klinischen TA) 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99"/>
                </a:solidFill>
                <a:latin typeface="Trebuchet MS"/>
              </a:rPr>
              <a:t>Abstraktion von Grundfiguren der TA hinter Konzepten und Vorgehensweisen </a:t>
            </a:r>
            <a:r>
              <a:rPr b="0" lang="de-DE" sz="2400" spc="-1" strike="noStrike">
                <a:solidFill>
                  <a:srgbClr val="003399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003399"/>
                </a:solidFill>
                <a:latin typeface="Trebuchet MS"/>
              </a:rPr>
              <a:t>Bsp. Spiele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99"/>
                </a:solidFill>
                <a:latin typeface="Trebuchet MS"/>
              </a:rPr>
              <a:t>Kreativer Ansatz </a:t>
            </a:r>
            <a:r>
              <a:rPr b="0" lang="de-DE" sz="2400" spc="-1" strike="noStrike">
                <a:solidFill>
                  <a:srgbClr val="003399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003399"/>
                </a:solidFill>
                <a:latin typeface="Trebuchet MS"/>
              </a:rPr>
              <a:t>Bsp. positive Lebensentwürfe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272360" cy="1358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18a"/>
                </a:solidFill>
                <a:latin typeface="Trebuchet MS"/>
              </a:rPr>
              <a:t>Ebenen der Neufassung von TA aus systemischer Perspek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00000" y="1916280"/>
            <a:ext cx="8429760" cy="45590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Konzeptionalisierung + Methodik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„</a:t>
            </a: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Meta-Professionalität“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Gesellschaftsbezogenes Menschen- und Wirklichkeitsbild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Identität als TA‘ler 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Weiterbildungssystem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Verbandspolitik</a:t>
            </a:r>
            <a:r>
              <a:rPr b="0" lang="de-DE" sz="2800" spc="-1" strike="noStrike">
                <a:solidFill>
                  <a:srgbClr val="0033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ahoma"/>
              </a:rPr>
              <a:t>TA als Beispiel einer Schulentwicklung 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cc0000"/>
                </a:solidFill>
                <a:latin typeface="Trebuchet MS"/>
              </a:rPr>
              <a:t>Systemische Professionalität + TA</a:t>
            </a: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 (2004) EHP Bd 1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cc0000"/>
                </a:solidFill>
                <a:latin typeface="Trebuchet MS"/>
              </a:rPr>
              <a:t>Intuition + Professionalität</a:t>
            </a: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  (2008) Carl Auer</a:t>
            </a:r>
            <a:r>
              <a:rPr b="0" lang="de-DE" sz="2800" spc="-1" strike="noStrike">
                <a:solidFill>
                  <a:srgbClr val="0033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448320" cy="1359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e8a"/>
                </a:solidFill>
                <a:latin typeface="Trebuchet MS"/>
              </a:rPr>
              <a:t>Warum Systemische TA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7925040" cy="40276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Trebuchet MS"/>
              </a:rPr>
              <a:t>Es geht nicht darum, die Welt neu zu erfinden, sondern sie neu zu beleuchten.</a:t>
            </a:r>
            <a:endParaRPr b="0" lang="en-US" sz="4000" spc="-1" strike="noStrike">
              <a:solidFill>
                <a:srgbClr val="0033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Trebuchet MS"/>
              </a:rPr>
              <a:t>Der große Kampf geht um die Anschauung der Dinge. </a:t>
            </a:r>
            <a:endParaRPr b="0" lang="en-US" sz="4000" spc="-1" strike="noStrike">
              <a:solidFill>
                <a:srgbClr val="003399"/>
              </a:solidFill>
              <a:latin typeface="Tahoma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99"/>
                </a:solidFill>
                <a:latin typeface="Trebuchet MS"/>
              </a:rPr>
              <a:t>Durs Grünbein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448320" cy="1359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18a"/>
                </a:solidFill>
                <a:latin typeface="Tahoma"/>
              </a:rPr>
              <a:t>Eric Berne   -Leb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9280" y="1383840"/>
            <a:ext cx="8604360" cy="56451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99"/>
                </a:solidFill>
                <a:latin typeface="Trebuchet MS"/>
              </a:rPr>
              <a:t>Berne wurde am 10. Mai 1910 als Eric Lennard Bernstein in Montréal in Kanada geboren. Er war der Sohn des Mediziners David und der Journalistin Sara Gordon Bernstein. 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99"/>
                </a:solidFill>
                <a:latin typeface="Trebuchet MS"/>
              </a:rPr>
              <a:t>Berne besuchte die </a:t>
            </a:r>
            <a:r>
              <a:rPr b="0" lang="de-DE" sz="2400" spc="-1" strike="noStrike" u="sng">
                <a:solidFill>
                  <a:srgbClr val="ccccff"/>
                </a:solidFill>
                <a:uFillTx/>
                <a:latin typeface="Trebuchet MS"/>
                <a:hlinkClick r:id="rId1"/>
              </a:rPr>
              <a:t>McGill University</a:t>
            </a:r>
            <a:r>
              <a:rPr b="0" lang="de-DE" sz="2400" spc="-1" strike="noStrike">
                <a:solidFill>
                  <a:srgbClr val="003399"/>
                </a:solidFill>
                <a:latin typeface="Trebuchet MS"/>
              </a:rPr>
              <a:t> in Montréal, an der er </a:t>
            </a:r>
            <a:r>
              <a:rPr b="0" lang="de-DE" sz="2400" spc="-1" strike="noStrike" u="sng">
                <a:solidFill>
                  <a:srgbClr val="ccccff"/>
                </a:solidFill>
                <a:uFillTx/>
                <a:latin typeface="Trebuchet MS"/>
                <a:hlinkClick r:id="rId2"/>
              </a:rPr>
              <a:t>1931</a:t>
            </a:r>
            <a:r>
              <a:rPr b="0" lang="de-DE" sz="2400" spc="-1" strike="noStrike">
                <a:solidFill>
                  <a:srgbClr val="003399"/>
                </a:solidFill>
                <a:latin typeface="Trebuchet MS"/>
              </a:rPr>
              <a:t> graduierte und </a:t>
            </a:r>
            <a:r>
              <a:rPr b="0" lang="de-DE" sz="2400" spc="-1" strike="noStrike" u="sng">
                <a:solidFill>
                  <a:srgbClr val="ccccff"/>
                </a:solidFill>
                <a:uFillTx/>
                <a:latin typeface="Trebuchet MS"/>
                <a:hlinkClick r:id="rId3"/>
              </a:rPr>
              <a:t>1935</a:t>
            </a:r>
            <a:r>
              <a:rPr b="0" lang="de-DE" sz="2400" spc="-1" strike="noStrike">
                <a:solidFill>
                  <a:srgbClr val="003399"/>
                </a:solidFill>
                <a:latin typeface="Trebuchet MS"/>
              </a:rPr>
              <a:t> den Dr. med. erwarb. Nach dem Abschluss nahm er ein Praktikum in Psychiatrie an der </a:t>
            </a:r>
            <a:r>
              <a:rPr b="0" lang="de-DE" sz="2400" spc="-1" strike="noStrike" u="sng">
                <a:solidFill>
                  <a:srgbClr val="ccccff"/>
                </a:solidFill>
                <a:uFillTx/>
                <a:latin typeface="Trebuchet MS"/>
                <a:hlinkClick r:id="rId4"/>
              </a:rPr>
              <a:t>Yale University</a:t>
            </a:r>
            <a:r>
              <a:rPr b="0" lang="de-DE" sz="2400" spc="-1" strike="noStrike">
                <a:solidFill>
                  <a:srgbClr val="003399"/>
                </a:solidFill>
                <a:latin typeface="Trebuchet MS"/>
              </a:rPr>
              <a:t> auf, wo er bei Dr. Paul Federn Psychoanalyse studierte. Er schloss seine Ausbildung </a:t>
            </a:r>
            <a:r>
              <a:rPr b="0" lang="de-DE" sz="2400" spc="-1" strike="noStrike" u="sng">
                <a:solidFill>
                  <a:srgbClr val="ccccff"/>
                </a:solidFill>
                <a:uFillTx/>
                <a:latin typeface="Trebuchet MS"/>
                <a:hlinkClick r:id="rId5"/>
              </a:rPr>
              <a:t>1938</a:t>
            </a:r>
            <a:r>
              <a:rPr b="0" lang="de-DE" sz="2400" spc="-1" strike="noStrike">
                <a:solidFill>
                  <a:srgbClr val="003399"/>
                </a:solidFill>
                <a:latin typeface="Trebuchet MS"/>
              </a:rPr>
              <a:t> ab und wurde 1939 amerikanischer Staatsbürger. 1943 änderte er seinen Namen in Eric Berne. In den 60er Jahren schaffte er den schriftstellerischen Durchbruch.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99"/>
                </a:solidFill>
                <a:latin typeface="Trebuchet MS"/>
              </a:rPr>
              <a:t>Berne war von 1942 bis 1945 mit Elinor McRae (zwei Kinder), von 1949 bis 1964 mit Dorothy DeMass Way (zwei Kinder) und von 1967</a:t>
            </a:r>
            <a:r>
              <a:rPr b="0" lang="de-DE" sz="2400" spc="-1" strike="noStrike">
                <a:solidFill>
                  <a:srgbClr val="003399"/>
                </a:solidFill>
                <a:latin typeface="Tahoma"/>
              </a:rPr>
              <a:t> bis 1970 mit Torre Peterson verheiratet.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377040" cy="1359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18a"/>
                </a:solidFill>
                <a:latin typeface="Trebuchet MS"/>
              </a:rPr>
              <a:t>Werk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55280" y="1412640"/>
            <a:ext cx="7924680" cy="5445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18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318a"/>
                </a:solidFill>
                <a:latin typeface="Trebuchet MS"/>
              </a:rPr>
              <a:t>Transaktionsanalyse der Intuition.</a:t>
            </a:r>
            <a:r>
              <a:rPr b="0" lang="de-DE" sz="2000" spc="-1" strike="noStrike">
                <a:solidFill>
                  <a:srgbClr val="00318a"/>
                </a:solidFill>
                <a:latin typeface="Trebuchet MS"/>
              </a:rPr>
              <a:t> 4. Auflage. Junfermann, Paderborn 2005, ISBN 978-3-87387-003-1 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18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318a"/>
                </a:solidFill>
                <a:latin typeface="Trebuchet MS"/>
              </a:rPr>
              <a:t>Die Transaktionsanalyse in der Psychotherapie.</a:t>
            </a:r>
            <a:r>
              <a:rPr b="0" lang="de-DE" sz="2000" spc="-1" strike="noStrike">
                <a:solidFill>
                  <a:srgbClr val="00318a"/>
                </a:solidFill>
                <a:latin typeface="Trebuchet MS"/>
              </a:rPr>
              <a:t> 2. Auflage. Junfermann, Paderborn 2006, ISBN 978-3-87387-423-7 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18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318a"/>
                </a:solidFill>
                <a:latin typeface="Trebuchet MS"/>
              </a:rPr>
              <a:t>Grundlagen der Gruppenbehandlung.</a:t>
            </a:r>
            <a:r>
              <a:rPr b="0" lang="de-DE" sz="2000" spc="-1" strike="noStrike">
                <a:solidFill>
                  <a:srgbClr val="00318a"/>
                </a:solidFill>
                <a:latin typeface="Trebuchet MS"/>
              </a:rPr>
              <a:t> 1. Auflage. Junfermann, Paderborn 2005, ISBN 978-3-87387-424-4 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18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318a"/>
                </a:solidFill>
                <a:latin typeface="Trebuchet MS"/>
              </a:rPr>
              <a:t>The mind in action</a:t>
            </a:r>
            <a:r>
              <a:rPr b="0" lang="de-DE" sz="2000" spc="-1" strike="noStrike">
                <a:solidFill>
                  <a:srgbClr val="00318a"/>
                </a:solidFill>
                <a:latin typeface="Trebuchet MS"/>
              </a:rPr>
              <a:t>. Simon &amp; Schuster, New York 1947. 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18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318a"/>
                </a:solidFill>
                <a:latin typeface="Trebuchet MS"/>
              </a:rPr>
              <a:t>Games People Play</a:t>
            </a:r>
            <a:r>
              <a:rPr b="0" lang="de-DE" sz="2000" spc="-1" strike="noStrike">
                <a:solidFill>
                  <a:srgbClr val="00318a"/>
                </a:solidFill>
                <a:latin typeface="Trebuchet MS"/>
              </a:rPr>
              <a:t>. Grove Press Inc., New-York 1964, ISBN               0-3...        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18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318a"/>
                </a:solidFill>
                <a:latin typeface="Trebuchet MS"/>
              </a:rPr>
              <a:t>Spiele der Erwachsenen</a:t>
            </a:r>
            <a:r>
              <a:rPr b="0" lang="de-DE" sz="2000" spc="-1" strike="noStrike">
                <a:solidFill>
                  <a:srgbClr val="00318a"/>
                </a:solidFill>
                <a:latin typeface="Trebuchet MS"/>
              </a:rPr>
              <a:t>. Rowohlt, Reinbek 1970. rororo, ISBN 3-4996-1350-6 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18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318a"/>
                </a:solidFill>
                <a:latin typeface="Trebuchet MS"/>
              </a:rPr>
              <a:t>Sex in Human Loving.</a:t>
            </a:r>
            <a:r>
              <a:rPr b="0" lang="de-DE" sz="2000" spc="-1" strike="noStrike">
                <a:solidFill>
                  <a:srgbClr val="00318a"/>
                </a:solidFill>
                <a:latin typeface="Trebuchet MS"/>
              </a:rPr>
              <a:t> 1971. 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18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318a"/>
                </a:solidFill>
                <a:latin typeface="Trebuchet MS"/>
              </a:rPr>
              <a:t>Spielarten und Spielregeln der Liebe. Psychologische Analyse der Partnerbeziehung.</a:t>
            </a:r>
            <a:r>
              <a:rPr b="0" lang="de-DE" sz="2000" spc="-1" strike="noStrike">
                <a:solidFill>
                  <a:srgbClr val="00318a"/>
                </a:solidFill>
                <a:latin typeface="Trebuchet MS"/>
              </a:rPr>
              <a:t> Aus dem Amerikan. übertr. von Edelgard und Gerd Stöhr. Rowohlt, Reinbek 1994, ISBN 3-4991-6848-0 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18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318a"/>
                </a:solidFill>
                <a:latin typeface="Trebuchet MS"/>
              </a:rPr>
              <a:t>What Do You Say After You Say Hello?</a:t>
            </a:r>
            <a:r>
              <a:rPr b="0" lang="de-DE" sz="2000" spc="-1" strike="noStrike">
                <a:solidFill>
                  <a:srgbClr val="00318a"/>
                </a:solidFill>
                <a:latin typeface="Trebuchet MS"/>
              </a:rPr>
              <a:t> Transworld Publ. Ltd UK, 1972, ISBN 0-5520-9806-X 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18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318a"/>
                </a:solidFill>
                <a:latin typeface="Trebuchet MS"/>
              </a:rPr>
              <a:t>Was sagen Sie, nachdem Sie Guten Tag gesagt haben?</a:t>
            </a:r>
            <a:r>
              <a:rPr b="0" lang="de-DE" sz="2000" spc="-1" strike="noStrike">
                <a:solidFill>
                  <a:srgbClr val="00318a"/>
                </a:solidFill>
                <a:latin typeface="Trebuchet MS"/>
              </a:rPr>
              <a:t> Fischer, ISBN 3-5964-2192-6 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359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e8a"/>
                </a:solidFill>
                <a:latin typeface="Trebuchet MS"/>
              </a:rPr>
              <a:t>Nicht </a:t>
            </a:r>
            <a:r>
              <a:rPr b="1" lang="en-US" sz="3200" spc="-1" strike="noStrike" u="sng">
                <a:solidFill>
                  <a:srgbClr val="002e8a"/>
                </a:solidFill>
                <a:uFillTx/>
                <a:latin typeface="Trebuchet MS"/>
              </a:rPr>
              <a:t>die</a:t>
            </a:r>
            <a:r>
              <a:rPr b="1" lang="en-US" sz="3200" spc="-1" strike="noStrike">
                <a:solidFill>
                  <a:srgbClr val="002e8a"/>
                </a:solidFill>
                <a:latin typeface="Trebuchet MS"/>
              </a:rPr>
              <a:t> TA, sondern </a:t>
            </a:r>
            <a:r>
              <a:rPr b="1" lang="en-US" sz="3200" spc="-1" strike="noStrike" u="sng">
                <a:solidFill>
                  <a:srgbClr val="002e8a"/>
                </a:solidFill>
                <a:uFillTx/>
                <a:latin typeface="Trebuchet MS"/>
              </a:rPr>
              <a:t>meine</a:t>
            </a:r>
            <a:r>
              <a:rPr b="1" lang="en-US" sz="3200" spc="-1" strike="noStrike">
                <a:solidFill>
                  <a:srgbClr val="002e8a"/>
                </a:solidFill>
                <a:latin typeface="Trebuchet MS"/>
              </a:rPr>
              <a:t> 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19000" y="1606680"/>
            <a:ext cx="7925040" cy="45590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rebuchet MS"/>
              </a:rPr>
              <a:t>Bewahrung von vielen guten Ideen, die ohne die klinische Tradition der TA nützlich sind.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rebuchet MS"/>
              </a:rPr>
              <a:t>Neuformulierungen aus systemischer Sicht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rebuchet MS"/>
              </a:rPr>
              <a:t>Weiterentwicklung/Neuentwicklungen von Konzepten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rebuchet MS"/>
              </a:rPr>
              <a:t>Keine Lehre von TA, sondern Verständnis und Interesse wecken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82760" y="-360"/>
            <a:ext cx="6377040" cy="1359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18a"/>
                </a:solidFill>
                <a:latin typeface="Trebuchet MS"/>
              </a:rPr>
              <a:t>Prioritä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1280" y="1384200"/>
            <a:ext cx="8532720" cy="52848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99"/>
                </a:solidFill>
                <a:latin typeface="Trebuchet MS"/>
              </a:rPr>
              <a:t>Darstellung durch Vortrag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99"/>
                </a:solidFill>
                <a:latin typeface="Trebuchet MS"/>
              </a:rPr>
              <a:t>Nicht Lehre: „Wetterflug“, nicht „Wanderung“ (nur gelegentliche „Landung“ für beispielhafte Ortserkundung)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99"/>
                </a:solidFill>
                <a:latin typeface="Trebuchet MS"/>
              </a:rPr>
              <a:t>Verweis auf weitere Lern- und Studienmöglichkeiten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99"/>
                </a:solidFill>
                <a:latin typeface="Trebuchet MS"/>
              </a:rPr>
              <a:t>Wesentliche Fragen + Antworten markieren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99"/>
                </a:solidFill>
                <a:latin typeface="Trebuchet MS"/>
              </a:rPr>
              <a:t>Kontexte und Einbettungen herausstellen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99"/>
                </a:solidFill>
                <a:latin typeface="Trebuchet MS"/>
              </a:rPr>
              <a:t>Weitere Entwicklungen und Transfer markieren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99640" y="-360"/>
            <a:ext cx="6521400" cy="1359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18a"/>
                </a:solidFill>
                <a:latin typeface="Trebuchet MS"/>
              </a:rPr>
              <a:t>Merkpunkte 1</a:t>
            </a:r>
            <a:br>
              <a:rPr sz="3200"/>
            </a:br>
            <a:r>
              <a:rPr b="1" lang="en-US" sz="3200" spc="-1" strike="noStrike">
                <a:solidFill>
                  <a:srgbClr val="00318a"/>
                </a:solidFill>
                <a:latin typeface="Trebuchet MS"/>
              </a:rPr>
              <a:t> meiner TA-Geschich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000" y="1383840"/>
            <a:ext cx="8675640" cy="54738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1976 Start TA-Ausbildung Heidelberg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1976 TA-conference San Francisco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1979 klinisches Examen Aix-en-Provence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1985 Lehrtrainer-Examen Barcelona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-----------------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1986 EATA- Wissenschaftspreis (Dilemma)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2007 Eric-Berne Memorial Award San Francisco 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(Rollenkonzept)  (beantragt von Günther Mohr, befürwortet von Fanita English, San Francisco und  von Sevaas van Beekum, Sidney)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6521400" cy="1359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rebuchet MS"/>
              </a:rPr>
              <a:t>Merkpunkte 2 </a:t>
            </a:r>
            <a:br>
              <a:rPr sz="3200"/>
            </a:br>
            <a:r>
              <a:rPr b="1" lang="en-US" sz="3200" spc="-1" strike="noStrike">
                <a:solidFill>
                  <a:srgbClr val="003399"/>
                </a:solidFill>
                <a:latin typeface="Trebuchet MS"/>
              </a:rPr>
              <a:t>meiner TA-Geschich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675640" cy="46087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90000"/>
              </a:lnSpc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99"/>
                </a:solidFill>
                <a:latin typeface="Trebuchet MS"/>
              </a:rPr>
              <a:t>1981 Erster Entwurf für neue Prüfungs-Ordnung (erst DGTA, später EATA)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560520" indent="-560520">
              <a:lnSpc>
                <a:spcPct val="90000"/>
              </a:lnSpc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99"/>
                </a:solidFill>
                <a:latin typeface="Trebuchet MS"/>
              </a:rPr>
              <a:t>langjährig Vorsitzender des Weiterbildungs- und Prüfungsausschusses DGTA (mit Hans Jellouscheck, Ilse Brab, Angelika Glöckner)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560520" indent="-560520">
              <a:lnSpc>
                <a:spcPct val="90000"/>
              </a:lnSpc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99"/>
                </a:solidFill>
                <a:latin typeface="Trebuchet MS"/>
              </a:rPr>
              <a:t>Insgesamt mehr als 2 Duzend erfolgreiche Prüflinge Level I und 3-4 Level II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560520" indent="-560520">
              <a:lnSpc>
                <a:spcPct val="90000"/>
              </a:lnSpc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99"/>
                </a:solidFill>
                <a:latin typeface="Trebuchet MS"/>
              </a:rPr>
              <a:t>Mit Leonard Schlegel meisten Beiträge in ZTA</a:t>
            </a:r>
            <a:r>
              <a:rPr b="0" lang="de-DE" sz="3200" spc="-1" strike="noStrike">
                <a:solidFill>
                  <a:srgbClr val="003399"/>
                </a:solidFill>
                <a:latin typeface="Trebuchet MS"/>
              </a:rPr>
              <a:t>	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377040" cy="1359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18a"/>
                </a:solidFill>
                <a:latin typeface="Trebuchet MS"/>
              </a:rPr>
              <a:t>Meine TA-LehrerInn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000" y="1383840"/>
            <a:ext cx="8459640" cy="54738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ahoma"/>
              </a:rPr>
              <a:t>Sponsoren: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de-DE" sz="2800" spc="-1" strike="noStrike">
                <a:solidFill>
                  <a:srgbClr val="003399"/>
                </a:solidFill>
                <a:latin typeface="Tahoma"/>
              </a:rPr>
              <a:t>Arlene Moore (Level 1), Rüdiger Rogoll (Level 2)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de-DE" sz="2800" spc="-1" strike="noStrike">
                <a:solidFill>
                  <a:srgbClr val="003399"/>
                </a:solidFill>
                <a:latin typeface="Tahoma"/>
              </a:rPr>
              <a:t>LehrerInnen: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ahoma"/>
              </a:rPr>
              <a:t>Bill Holloway (Theorie + Intuition </a:t>
            </a:r>
            <a:r>
              <a:rPr b="0" lang="de-DE" sz="2800" spc="-1" strike="noStrike">
                <a:solidFill>
                  <a:srgbClr val="003399"/>
                </a:solidFill>
                <a:latin typeface="Wingdings"/>
                <a:ea typeface="Wingdings"/>
              </a:rPr>
              <a:t></a:t>
            </a:r>
            <a:r>
              <a:rPr b="0" lang="de-DE" sz="2800" spc="-1" strike="noStrike">
                <a:solidFill>
                  <a:srgbClr val="003399"/>
                </a:solidFill>
                <a:latin typeface="Tahoma"/>
              </a:rPr>
              <a:t> Business)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ahoma"/>
              </a:rPr>
              <a:t>Mike Brown (</a:t>
            </a:r>
            <a:r>
              <a:rPr b="0" lang="de-DE" sz="2800" spc="-1" strike="noStrike">
                <a:solidFill>
                  <a:srgbClr val="003399"/>
                </a:solidFill>
                <a:latin typeface="Wingdings"/>
                <a:ea typeface="Wingdings"/>
              </a:rPr>
              <a:t></a:t>
            </a:r>
            <a:r>
              <a:rPr b="0" lang="de-DE" sz="2800" spc="-1" strike="noStrike">
                <a:solidFill>
                  <a:srgbClr val="003399"/>
                </a:solidFill>
                <a:latin typeface="Tahoma"/>
              </a:rPr>
              <a:t> Milton Erickson) 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ahoma"/>
              </a:rPr>
              <a:t>Fanita English (</a:t>
            </a:r>
            <a:r>
              <a:rPr b="0" lang="de-DE" sz="2800" spc="-1" strike="noStrike">
                <a:solidFill>
                  <a:srgbClr val="003399"/>
                </a:solidFill>
                <a:latin typeface="Wingdings"/>
                <a:ea typeface="Wingdings"/>
              </a:rPr>
              <a:t></a:t>
            </a:r>
            <a:r>
              <a:rPr b="0" lang="de-DE" sz="2800" spc="-1" strike="noStrike">
                <a:solidFill>
                  <a:srgbClr val="003399"/>
                </a:solidFill>
                <a:latin typeface="Tahoma"/>
              </a:rPr>
              <a:t> TA unkonvertionell, kreativ)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ahoma"/>
              </a:rPr>
              <a:t>Jacqui Schiff – Shea Schiff (Reparenting school)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ahoma"/>
              </a:rPr>
              <a:t>Richard Erskine (George Kohlrieser)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ahoma"/>
              </a:rPr>
              <a:t>Ruth McLendon /Les Kadis (TA-Familientherapie)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ahoma"/>
              </a:rPr>
              <a:t>Bob + Mary Gloulding  (Redecision school)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ahoma"/>
              </a:rPr>
              <a:t>Und viele andere, auch meiner Generation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1359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e8a"/>
                </a:solidFill>
                <a:latin typeface="Trebuchet MS"/>
              </a:rPr>
              <a:t>Wie habe ich TA 1976 angetroffe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15920" y="1688760"/>
            <a:ext cx="7925040" cy="4559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Nach Psychoanalyse/Jung/Adler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nach Gruppendynamik/ Rogers/Reich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nach Gestalt</a:t>
            </a:r>
            <a:r>
              <a:rPr b="0" i="1" lang="de-DE" sz="2800" spc="-1" strike="noStrike">
                <a:solidFill>
                  <a:srgbClr val="003399"/>
                </a:solidFill>
                <a:latin typeface="Trebuchet MS"/>
              </a:rPr>
              <a:t>: Ich und Du im Hier und jetzt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Erlebnis- und Theorie- orientiert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Vielfalt: geleitete Phantasien und differenzierte Theorie (Bsp. Bill Holloway)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Neue Entwicklungen: Redecision (Bob + Mary Goulding) Reparenting (Jacqui Schiff et al.)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Szenenstil: Persönlich + unkonventionell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200720" cy="1359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18a"/>
                </a:solidFill>
                <a:latin typeface="Trebuchet MS"/>
              </a:rPr>
              <a:t>Wurzeln und Strömungen der 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920" y="1730520"/>
            <a:ext cx="7925040" cy="45590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Intuitionsstudien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pragmatische Erweiterung der Psychoanalyse 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0" lang="en-GB" sz="2800" spc="-1" strike="noStrike">
                <a:solidFill>
                  <a:srgbClr val="003399"/>
                </a:solidFill>
                <a:latin typeface="Trebuchet MS"/>
              </a:rPr>
              <a:t>Real people, real life situations  “</a:t>
            </a:r>
            <a:r>
              <a:rPr b="0" i="1" lang="en-GB" sz="2800" spc="-1" strike="noStrike">
                <a:solidFill>
                  <a:srgbClr val="003399"/>
                </a:solidFill>
                <a:latin typeface="Trebuchet MS"/>
              </a:rPr>
              <a:t>I never saw an ID walking!”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3399"/>
                </a:solidFill>
                <a:latin typeface="Trebuchet MS"/>
              </a:rPr>
              <a:t>First cure then analyse!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Trebuchet MS"/>
              </a:rPr>
              <a:t>“</a:t>
            </a:r>
            <a:r>
              <a:rPr b="0" lang="en-GB" sz="2800" spc="-1" strike="noStrike">
                <a:solidFill>
                  <a:srgbClr val="003399"/>
                </a:solidFill>
                <a:latin typeface="Trebuchet MS"/>
              </a:rPr>
              <a:t>Gruppentherapie”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Trebuchet MS"/>
              </a:rPr>
              <a:t>antithetische Begegnung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Trebuchet MS"/>
              </a:rPr>
              <a:t>social psychiatry + andere Anwendungsbereiche 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3T11:18:09Z</dcterms:created>
  <dc:creator>Institut für systemische Beratung</dc:creator>
  <dc:description/>
  <dc:language>en-US</dc:language>
  <cp:lastModifiedBy>Dr. Bernd Schmid</cp:lastModifiedBy>
  <dcterms:modified xsi:type="dcterms:W3CDTF">2009-07-08T16:35:50Z</dcterms:modified>
  <cp:revision>347</cp:revision>
  <dc:subject/>
  <dc:title>PowerPoint-Präsentation</dc:title>
</cp:coreProperties>
</file>