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B1DE-7FBF-4A3B-BD9B-1C2690FE4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7924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8960" y="3765600"/>
            <a:ext cx="7924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4691-B28C-49A7-9976-81FF2AE3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8960" y="376560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79760" y="376560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4578-B01D-4C3B-AA93-0E89A7FE2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8440" y="138384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78280" y="138384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8960" y="376560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8440" y="376560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78280" y="376560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C69D-53A9-467C-A4B5-8D8158DD9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8960" y="1383840"/>
            <a:ext cx="7924680" cy="45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BE7F-864A-478C-BF4A-AA131BE0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792468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792A-6CAB-46FA-A32B-6C34F1F0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3835-71B7-44D7-A6B7-E5ABEB65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73FD-4BBD-492D-8D9A-E597895D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8960" y="-360"/>
            <a:ext cx="792468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0ECA-A55E-4C71-B685-660B3662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8960" y="376560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F8D7-FFEB-4581-9F27-0E6FB003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79760" y="376560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2063-6D54-4E5B-BE8F-7FFB0809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8960" y="3765600"/>
            <a:ext cx="7924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8B44-FBCE-4897-8B9B-7B056722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1D33-FDB5-4842-B283-020B5EA6BC47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1932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218960" y="1383840"/>
            <a:ext cx="7924680" cy="4559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"/>
          <p:cNvSpPr/>
          <p:nvPr/>
        </p:nvSpPr>
        <p:spPr>
          <a:xfrm>
            <a:off x="0" y="27907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3812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7848720" y="76320"/>
            <a:ext cx="1218960" cy="121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sb-w.de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6006960"/>
            <a:ext cx="80643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024600"/>
            <a:ext cx="8686800" cy="833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2e8a"/>
                </a:solidFill>
                <a:latin typeface="Trebuchet MS"/>
                <a:ea typeface="Arial"/>
              </a:rPr>
              <a:t>Institute for systemic consulting, Wiesloch (Germany)</a:t>
            </a:r>
            <a:r>
              <a:rPr b="1" lang="de-DE" sz="18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8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ccccff"/>
                </a:solidFill>
                <a:uFillTx/>
                <a:latin typeface="Century Gothic"/>
                <a:ea typeface="Arial"/>
                <a:hlinkClick r:id="rId1"/>
              </a:rPr>
              <a:t>www.isb-w.de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098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42920" y="2095560"/>
            <a:ext cx="7467840" cy="26668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2e8a"/>
                </a:solidFill>
                <a:latin typeface="Trebuchet MS"/>
              </a:rPr>
              <a:t>The Theatre Metaph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EA19-FDF3-4380-9BC3-CAAF99A4DA54}" type="slidenum">
              <a:t>1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44832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The theatre metaph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1773360"/>
            <a:ext cx="7056360" cy="45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18a"/>
                </a:solidFill>
                <a:latin typeface="Trebuchet MS"/>
              </a:rPr>
              <a:t>personality as a portfolio of one</a:t>
            </a:r>
            <a:r>
              <a:rPr b="1" lang="en-US" sz="2400" spc="-1" strike="noStrike">
                <a:solidFill>
                  <a:srgbClr val="00318a"/>
                </a:solidFill>
                <a:latin typeface="Trebuchet MS"/>
              </a:rPr>
              <a:t>'</a:t>
            </a:r>
            <a:r>
              <a:rPr b="1" lang="de-DE" sz="2400" spc="-1" strike="noStrike">
                <a:solidFill>
                  <a:srgbClr val="00318a"/>
                </a:solidFill>
                <a:latin typeface="Trebuchet MS"/>
              </a:rPr>
              <a:t>s roles, stages, themes, stories and styles of 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18a"/>
                </a:solidFill>
                <a:latin typeface="Trebuchet MS"/>
              </a:rPr>
              <a:t>dialogue on personality including observations and intu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18a"/>
                </a:solidFill>
                <a:latin typeface="Trebuchet MS"/>
              </a:rPr>
              <a:t>oriented to past, present or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18a"/>
                </a:solidFill>
                <a:latin typeface="Trebuchet MS"/>
              </a:rPr>
              <a:t>individuals and also organizations meet for the purpose of inventing shared plays, tying together roles, stages, storie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18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AA9E-34F7-4B9A-9D1C-14013F71C82E}" type="slidenum">
              <a:t>2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648000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2e8a"/>
                </a:solidFill>
                <a:latin typeface="Trebuchet MS"/>
              </a:rPr>
              <a:t>Personality in terms of                              the theatre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1676520"/>
            <a:ext cx="7924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68720" y="3181320"/>
            <a:ext cx="2179800" cy="15400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2e8a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2e8a"/>
                </a:solidFill>
                <a:latin typeface="Trebuchet MS"/>
              </a:rPr>
              <a:t>person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5891400">
            <a:off x="6271560" y="4044960"/>
            <a:ext cx="1485720" cy="1546200"/>
          </a:xfrm>
          <a:custGeom>
            <a:avLst/>
            <a:gdLst>
              <a:gd name="textAreaLeft" fmla="*/ 326520 w 1485720"/>
              <a:gd name="textAreaRight" fmla="*/ 1159200 w 1485720"/>
              <a:gd name="textAreaTop" fmla="*/ 339840 h 1546200"/>
              <a:gd name="textAreaBottom" fmla="*/ 1206360 h 154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2e8a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2e8a"/>
                </a:solidFill>
                <a:latin typeface="Trebuchet MS"/>
              </a:rPr>
              <a:t>s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9058400">
            <a:off x="2760840" y="1707840"/>
            <a:ext cx="1579320" cy="1333440"/>
          </a:xfrm>
          <a:custGeom>
            <a:avLst/>
            <a:gdLst>
              <a:gd name="textAreaLeft" fmla="*/ 347040 w 1579320"/>
              <a:gd name="textAreaRight" fmla="*/ 1232280 w 1579320"/>
              <a:gd name="textAreaTop" fmla="*/ 293040 h 1333440"/>
              <a:gd name="textAreaBottom" fmla="*/ 1040400 h 13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3" y="21600"/>
                </a:lnTo>
                <a:lnTo>
                  <a:pt x="5397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2e8a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2e8a"/>
                </a:solidFill>
                <a:latin typeface="Trebuchet MS"/>
              </a:rPr>
              <a:t>Top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5114000">
            <a:off x="2147760" y="3642840"/>
            <a:ext cx="1670040" cy="1851120"/>
          </a:xfrm>
          <a:custGeom>
            <a:avLst/>
            <a:gdLst>
              <a:gd name="textAreaLeft" fmla="*/ 250920 w 1670040"/>
              <a:gd name="textAreaRight" fmla="*/ 1419120 w 1670040"/>
              <a:gd name="textAreaTop" fmla="*/ 278280 h 1851120"/>
              <a:gd name="textAreaBottom" fmla="*/ 1572840 h 185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04" y="21600"/>
                </a:lnTo>
                <a:lnTo>
                  <a:pt x="2696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2e8a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2e8a"/>
                </a:solidFill>
                <a:latin typeface="Trebuchet MS"/>
              </a:rPr>
              <a:t>Styles of play and created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0618800">
            <a:off x="4167000" y="5283000"/>
            <a:ext cx="1699920" cy="1384200"/>
          </a:xfrm>
          <a:custGeom>
            <a:avLst/>
            <a:gdLst>
              <a:gd name="textAreaLeft" fmla="*/ 369000 w 1699920"/>
              <a:gd name="textAreaRight" fmla="*/ 1330920 w 1699920"/>
              <a:gd name="textAreaTop" fmla="*/ 300600 h 1384200"/>
              <a:gd name="textAreaBottom" fmla="*/ 1083600 h 13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306" y="21600"/>
                </a:lnTo>
                <a:lnTo>
                  <a:pt x="5294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2e8a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e8a"/>
                </a:solidFill>
                <a:latin typeface="Trebuchet MS"/>
              </a:rPr>
              <a:t>Ro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2268600">
            <a:off x="3423960" y="5667120"/>
            <a:ext cx="654120" cy="257040"/>
          </a:xfrm>
          <a:prstGeom prst="leftRightArrow">
            <a:avLst>
              <a:gd name="adj1" fmla="val 50000"/>
              <a:gd name="adj2" fmla="val 50660"/>
            </a:avLst>
          </a:prstGeom>
          <a:solidFill>
            <a:srgbClr val="ffffff"/>
          </a:solidFill>
          <a:ln w="9360">
            <a:solidFill>
              <a:srgbClr val="002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9786200">
            <a:off x="6100920" y="5667480"/>
            <a:ext cx="653760" cy="257040"/>
          </a:xfrm>
          <a:prstGeom prst="leftRightArrow">
            <a:avLst>
              <a:gd name="adj1" fmla="val 50000"/>
              <a:gd name="adj2" fmla="val 50633"/>
            </a:avLst>
          </a:prstGeom>
          <a:solidFill>
            <a:srgbClr val="ffffff"/>
          </a:solidFill>
          <a:ln w="9360">
            <a:solidFill>
              <a:srgbClr val="002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3766200">
            <a:off x="6788520" y="3153240"/>
            <a:ext cx="565200" cy="296640"/>
          </a:xfrm>
          <a:prstGeom prst="leftRightArrow">
            <a:avLst>
              <a:gd name="adj1" fmla="val 50000"/>
              <a:gd name="adj2" fmla="val 37930"/>
            </a:avLst>
          </a:prstGeom>
          <a:solidFill>
            <a:srgbClr val="ffffff"/>
          </a:solidFill>
          <a:ln w="9360">
            <a:solidFill>
              <a:srgbClr val="002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57000">
            <a:off x="4614480" y="1819080"/>
            <a:ext cx="652320" cy="257040"/>
          </a:xfrm>
          <a:prstGeom prst="leftRightArrow">
            <a:avLst>
              <a:gd name="adj1" fmla="val 50000"/>
              <a:gd name="adj2" fmla="val 50521"/>
            </a:avLst>
          </a:prstGeom>
          <a:solidFill>
            <a:srgbClr val="ffffff"/>
          </a:solidFill>
          <a:ln w="9360">
            <a:solidFill>
              <a:srgbClr val="002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537800">
            <a:off x="5374800" y="1663200"/>
            <a:ext cx="1581120" cy="1231920"/>
          </a:xfrm>
          <a:custGeom>
            <a:avLst/>
            <a:gdLst>
              <a:gd name="textAreaLeft" fmla="*/ 347760 w 1581120"/>
              <a:gd name="textAreaRight" fmla="*/ 1233360 w 1581120"/>
              <a:gd name="textAreaTop" fmla="*/ 270720 h 1231920"/>
              <a:gd name="textAreaBottom" fmla="*/ 961200 h 123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2e8a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2e8a"/>
                </a:solidFill>
                <a:latin typeface="Trebuchet MS"/>
              </a:rPr>
              <a:t>St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5998800">
            <a:off x="2758320" y="3297960"/>
            <a:ext cx="564840" cy="296640"/>
          </a:xfrm>
          <a:prstGeom prst="leftRightArrow">
            <a:avLst>
              <a:gd name="adj1" fmla="val 50000"/>
              <a:gd name="adj2" fmla="val 37906"/>
            </a:avLst>
          </a:prstGeom>
          <a:solidFill>
            <a:srgbClr val="ffffff"/>
          </a:solidFill>
          <a:ln w="9360">
            <a:solidFill>
              <a:srgbClr val="002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87240" y="6249960"/>
            <a:ext cx="118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e8a"/>
                </a:solidFill>
                <a:latin typeface="Trebuchet MS"/>
                <a:ea typeface="Times New Roman"/>
              </a:rPr>
              <a:t>www.isb-w.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D968-F1E3-4EE1-B23C-4708F2D21BA4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6408720" cy="1357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2e8a"/>
                </a:solidFill>
                <a:latin typeface="Trebuchet MS"/>
              </a:rPr>
              <a:t>Relationships in terms of                         the theatre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900000" y="1886760"/>
            <a:ext cx="7924680" cy="3661200"/>
            <a:chOff x="900000" y="1886760"/>
            <a:chExt cx="7924680" cy="3661200"/>
          </a:xfrm>
        </p:grpSpPr>
        <p:sp>
          <p:nvSpPr>
            <p:cNvPr id="70" name=""/>
            <p:cNvSpPr/>
            <p:nvPr/>
          </p:nvSpPr>
          <p:spPr>
            <a:xfrm>
              <a:off x="900000" y="1916280"/>
              <a:ext cx="79246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5530800">
              <a:off x="889200" y="2024640"/>
              <a:ext cx="3440160" cy="3286080"/>
            </a:xfrm>
            <a:prstGeom prst="blockArc">
              <a:avLst>
                <a:gd name="adj1" fmla="val 8221043"/>
                <a:gd name="adj2" fmla="val 2578957"/>
                <a:gd name="adj3" fmla="val 0"/>
              </a:avLst>
            </a:prstGeom>
            <a:solidFill>
              <a:srgbClr val="ccccff">
                <a:alpha val="50000"/>
              </a:srgbClr>
            </a:solidFill>
            <a:ln w="28440">
              <a:solidFill>
                <a:srgbClr val="002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324800">
              <a:off x="5242320" y="2126160"/>
              <a:ext cx="3440160" cy="3286080"/>
            </a:xfrm>
            <a:prstGeom prst="blockArc">
              <a:avLst>
                <a:gd name="adj1" fmla="val 8221043"/>
                <a:gd name="adj2" fmla="val 2578957"/>
                <a:gd name="adj3" fmla="val 0"/>
              </a:avLst>
            </a:prstGeom>
            <a:solidFill>
              <a:srgbClr val="ccccff">
                <a:alpha val="50000"/>
              </a:srgbClr>
            </a:solidFill>
            <a:ln w="28440">
              <a:solidFill>
                <a:srgbClr val="002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024080" y="2808360"/>
              <a:ext cx="1600200" cy="171936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28440">
              <a:solidFill>
                <a:srgbClr val="002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2e8a"/>
                  </a:solidFill>
                  <a:latin typeface="Arial"/>
                </a:rPr>
                <a:t>Shared pl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76160" y="2449440"/>
              <a:ext cx="1074960" cy="47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2e8a"/>
              </a:solidFill>
              <a:miter/>
            </a:ln>
            <a:effectLst>
              <a:outerShdw dist="107932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2e8a"/>
                  </a:solidFill>
                  <a:latin typeface="Tahoma"/>
                </a:rPr>
                <a:t>Topi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04560" y="2525760"/>
              <a:ext cx="1074960" cy="43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2e8a"/>
              </a:solidFill>
              <a:miter/>
            </a:ln>
            <a:effectLst>
              <a:outerShdw dist="107932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2e8a"/>
                  </a:solidFill>
                  <a:latin typeface="Tahoma"/>
                </a:rPr>
                <a:t>Stor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33160" y="3211560"/>
              <a:ext cx="1081080" cy="49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2e8a"/>
              </a:solidFill>
              <a:miter/>
            </a:ln>
            <a:effectLst>
              <a:outerShdw dist="107932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2e8a"/>
                  </a:solidFill>
                  <a:latin typeface="Tahoma"/>
                </a:rPr>
                <a:t>Stag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81080" y="3135240"/>
              <a:ext cx="944640" cy="49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2e8a"/>
              </a:solidFill>
              <a:miter/>
            </a:ln>
            <a:effectLst>
              <a:outerShdw dist="107932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2e8a"/>
                  </a:solidFill>
                  <a:latin typeface="Tahoma"/>
                </a:rPr>
                <a:t>Ro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585800" y="3973680"/>
              <a:ext cx="20574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2e8a"/>
              </a:solidFill>
              <a:miter/>
            </a:ln>
            <a:effectLst>
              <a:outerShdw dist="107932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2e8a"/>
                  </a:solidFill>
                  <a:latin typeface="Tahoma"/>
                </a:rPr>
                <a:t>Styles of play and created proce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700600" y="2449440"/>
              <a:ext cx="1081080" cy="49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2e8a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2e8a"/>
                  </a:solidFill>
                  <a:latin typeface="Tahoma"/>
                </a:rPr>
                <a:t>Topi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00600" y="3135240"/>
              <a:ext cx="944280" cy="49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2e8a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2e8a"/>
                  </a:solidFill>
                  <a:latin typeface="Arial"/>
                </a:rPr>
                <a:t>Ro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00600" y="3973680"/>
              <a:ext cx="236196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2e8a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2e8a"/>
                  </a:solidFill>
                  <a:latin typeface="Arial"/>
                </a:rPr>
                <a:t>Styles of play and created proce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995880" y="3287880"/>
              <a:ext cx="1079640" cy="49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2e8a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e8a"/>
                  </a:solidFill>
                  <a:latin typeface="Arial"/>
                </a:rPr>
                <a:t>Stag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072200" y="2525760"/>
              <a:ext cx="1081080" cy="49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2e8a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e8a"/>
                  </a:solidFill>
                  <a:latin typeface="Tahoma"/>
                </a:rPr>
                <a:t>Stor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EC52-83D8-4771-9AFE-2C8AEC7232FE}" type="slidenum">
              <a:t>4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3T11:18:09Z</dcterms:created>
  <dc:creator>Institut für systemische Beratung</dc:creator>
  <dc:description/>
  <dc:language>en-US</dc:language>
  <cp:lastModifiedBy>Rona Rowe</cp:lastModifiedBy>
  <dcterms:modified xsi:type="dcterms:W3CDTF">2011-07-05T14:44:02Z</dcterms:modified>
  <cp:revision>427</cp:revision>
  <dc:subject/>
  <dc:title>PowerPoint-Präsentation</dc:title>
</cp:coreProperties>
</file>