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652-A37B-47F0-B631-F089E01D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DE4-8510-4AC0-ACA6-2DE1919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BFC-842B-4CA3-B63C-FDF1929E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B64-38CE-4746-A78D-3851C6A9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7A2-276A-4BF7-850B-E92C869A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067-5980-4D65-9C81-1670169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8CB-AD82-44D0-B6D0-7C1EC11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6F2-AD78-4365-A697-23B85ED9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80A-A6D9-4E4A-ADC6-4EB266AF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5F8-7C86-473F-A972-EC5F7A25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E04-1298-4AA7-9AAB-FD6DF1A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57B-A752-492C-B421-72FDBEB5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CC25-56A8-44DD-8F73-E9D2E7040EAD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he Theatre Metaph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DF0-F6A5-4E2C-B62C-6532E8244BB0}" type="slidenum">
              <a:t>1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e theatre metaph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773360"/>
            <a:ext cx="70563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personality as a portfolio of one</a:t>
            </a:r>
            <a:r>
              <a:rPr b="1" lang="en-US" sz="2400" spc="-1" strike="noStrike">
                <a:solidFill>
                  <a:srgbClr val="00318a"/>
                </a:solidFill>
                <a:latin typeface="Trebuchet MS"/>
              </a:rPr>
              <a:t>'</a:t>
            </a: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s roles, stages, themes, stories and styles of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dialogue on personality including observations and 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oriented to past, present or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individuals and also organizations meet for the purpose of inventing shared plays, tying together roles, stages, stori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643-766D-4CB1-9C65-764D117EEA69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4800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e8a"/>
                </a:solidFill>
                <a:latin typeface="Trebuchet MS"/>
              </a:rPr>
              <a:t>Personality in terms of                              the theatre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68720" y="3181320"/>
            <a:ext cx="2179800" cy="1540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2e8a"/>
                </a:solidFill>
                <a:latin typeface="Trebuchet MS"/>
              </a:rPr>
              <a:t>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891400">
            <a:off x="6271560" y="4044960"/>
            <a:ext cx="1485720" cy="1546200"/>
          </a:xfrm>
          <a:custGeom>
            <a:avLst/>
            <a:gdLst>
              <a:gd name="textAreaLeft" fmla="*/ 326520 w 1485720"/>
              <a:gd name="textAreaRight" fmla="*/ 1159200 w 1485720"/>
              <a:gd name="textAreaTop" fmla="*/ 339840 h 1546200"/>
              <a:gd name="textAreaBottom" fmla="*/ 1206360 h 15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e8a"/>
                </a:solidFill>
                <a:latin typeface="Trebuchet MS"/>
              </a:rPr>
              <a:t>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058400">
            <a:off x="2760840" y="1707840"/>
            <a:ext cx="1579320" cy="1333440"/>
          </a:xfrm>
          <a:custGeom>
            <a:avLst/>
            <a:gdLst>
              <a:gd name="textAreaLeft" fmla="*/ 347040 w 1579320"/>
              <a:gd name="textAreaRight" fmla="*/ 1232280 w 1579320"/>
              <a:gd name="textAreaTop" fmla="*/ 293040 h 1333440"/>
              <a:gd name="textAreaBottom" fmla="*/ 104040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e8a"/>
                </a:solidFill>
                <a:latin typeface="Trebuchet MS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5114000">
            <a:off x="2147760" y="3642840"/>
            <a:ext cx="1670040" cy="1851120"/>
          </a:xfrm>
          <a:custGeom>
            <a:avLst/>
            <a:gdLst>
              <a:gd name="textAreaLeft" fmla="*/ 250920 w 1670040"/>
              <a:gd name="textAreaRight" fmla="*/ 1419120 w 1670040"/>
              <a:gd name="textAreaTop" fmla="*/ 278280 h 1851120"/>
              <a:gd name="textAreaBottom" fmla="*/ 1572840 h 18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04" y="21600"/>
                </a:lnTo>
                <a:lnTo>
                  <a:pt x="2696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e8a"/>
                </a:solidFill>
                <a:latin typeface="Trebuchet MS"/>
              </a:rPr>
              <a:t>Styles of play and created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618800">
            <a:off x="4167000" y="5283000"/>
            <a:ext cx="1699920" cy="1384200"/>
          </a:xfrm>
          <a:custGeom>
            <a:avLst/>
            <a:gdLst>
              <a:gd name="textAreaLeft" fmla="*/ 369000 w 1699920"/>
              <a:gd name="textAreaRight" fmla="*/ 1330920 w 1699920"/>
              <a:gd name="textAreaTop" fmla="*/ 300600 h 1384200"/>
              <a:gd name="textAreaBottom" fmla="*/ 1083600 h 13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06" y="21600"/>
                </a:lnTo>
                <a:lnTo>
                  <a:pt x="5294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e8a"/>
                </a:solidFill>
                <a:latin typeface="Trebuchet MS"/>
              </a:rPr>
              <a:t>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268600">
            <a:off x="3423960" y="5667120"/>
            <a:ext cx="654120" cy="257040"/>
          </a:xfrm>
          <a:prstGeom prst="leftRightArrow">
            <a:avLst>
              <a:gd name="adj1" fmla="val 50000"/>
              <a:gd name="adj2" fmla="val 50660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786200">
            <a:off x="6100920" y="5667480"/>
            <a:ext cx="653760" cy="257040"/>
          </a:xfrm>
          <a:prstGeom prst="leftRightArrow">
            <a:avLst>
              <a:gd name="adj1" fmla="val 50000"/>
              <a:gd name="adj2" fmla="val 50633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3766200">
            <a:off x="6788520" y="3153240"/>
            <a:ext cx="565200" cy="296640"/>
          </a:xfrm>
          <a:prstGeom prst="leftRightArrow">
            <a:avLst>
              <a:gd name="adj1" fmla="val 50000"/>
              <a:gd name="adj2" fmla="val 37930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7000">
            <a:off x="4614480" y="1819080"/>
            <a:ext cx="652320" cy="257040"/>
          </a:xfrm>
          <a:prstGeom prst="leftRightArrow">
            <a:avLst>
              <a:gd name="adj1" fmla="val 50000"/>
              <a:gd name="adj2" fmla="val 50521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537800">
            <a:off x="5374800" y="1663200"/>
            <a:ext cx="1581120" cy="1231920"/>
          </a:xfrm>
          <a:custGeom>
            <a:avLst/>
            <a:gdLst>
              <a:gd name="textAreaLeft" fmla="*/ 347760 w 1581120"/>
              <a:gd name="textAreaRight" fmla="*/ 1233360 w 1581120"/>
              <a:gd name="textAreaTop" fmla="*/ 270720 h 1231920"/>
              <a:gd name="textAreaBottom" fmla="*/ 96120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e8a"/>
                </a:solidFill>
                <a:latin typeface="Trebuchet MS"/>
              </a:rPr>
              <a:t>S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998800">
            <a:off x="2758320" y="3297960"/>
            <a:ext cx="564840" cy="296640"/>
          </a:xfrm>
          <a:prstGeom prst="leftRightArrow">
            <a:avLst>
              <a:gd name="adj1" fmla="val 50000"/>
              <a:gd name="adj2" fmla="val 37906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7240" y="624996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www.isb-w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6A3-E961-4936-AE98-4B2F394E46AF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40872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e8a"/>
                </a:solidFill>
                <a:latin typeface="Trebuchet MS"/>
              </a:rPr>
              <a:t>Relationships in terms of                         the theatre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00000" y="1886760"/>
            <a:ext cx="7924680" cy="3661200"/>
            <a:chOff x="900000" y="1886760"/>
            <a:chExt cx="7924680" cy="3661200"/>
          </a:xfrm>
        </p:grpSpPr>
        <p:sp>
          <p:nvSpPr>
            <p:cNvPr id="70" name=""/>
            <p:cNvSpPr/>
            <p:nvPr/>
          </p:nvSpPr>
          <p:spPr>
            <a:xfrm>
              <a:off x="900000" y="1916280"/>
              <a:ext cx="79246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530800">
              <a:off x="889200" y="2024640"/>
              <a:ext cx="3440160" cy="3286080"/>
            </a:xfrm>
            <a:prstGeom prst="blockArc">
              <a:avLst>
                <a:gd name="adj1" fmla="val 8221043"/>
                <a:gd name="adj2" fmla="val 2578957"/>
                <a:gd name="adj3" fmla="val 0"/>
              </a:avLst>
            </a:prstGeom>
            <a:solidFill>
              <a:srgbClr val="ccccff">
                <a:alpha val="50000"/>
              </a:srgbClr>
            </a:solidFill>
            <a:ln w="284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324800">
              <a:off x="5242320" y="2126160"/>
              <a:ext cx="3440160" cy="3286080"/>
            </a:xfrm>
            <a:prstGeom prst="blockArc">
              <a:avLst>
                <a:gd name="adj1" fmla="val 8221043"/>
                <a:gd name="adj2" fmla="val 2578957"/>
                <a:gd name="adj3" fmla="val 0"/>
              </a:avLst>
            </a:prstGeom>
            <a:solidFill>
              <a:srgbClr val="ccccff">
                <a:alpha val="50000"/>
              </a:srgbClr>
            </a:solidFill>
            <a:ln w="284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24080" y="2808360"/>
              <a:ext cx="1600200" cy="17193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284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2e8a"/>
                  </a:solidFill>
                  <a:latin typeface="Arial"/>
                </a:rPr>
                <a:t>Shared p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76160" y="2449440"/>
              <a:ext cx="1074960" cy="47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Top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04560" y="2525760"/>
              <a:ext cx="1074960" cy="43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Sto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33160" y="3211560"/>
              <a:ext cx="108108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St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81080" y="3135240"/>
              <a:ext cx="94464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Ro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85800" y="397368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Styles of play and created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00600" y="2449440"/>
              <a:ext cx="108108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Top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00600" y="3135240"/>
              <a:ext cx="94428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Ro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00600" y="3973680"/>
              <a:ext cx="23619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Styles of play and created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95880" y="3287880"/>
              <a:ext cx="107964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e8a"/>
                  </a:solidFill>
                  <a:latin typeface="Arial"/>
                </a:rPr>
                <a:t>St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72200" y="2525760"/>
              <a:ext cx="108108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e8a"/>
                  </a:solidFill>
                  <a:latin typeface="Tahoma"/>
                </a:rPr>
                <a:t>Sto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AF6-9CEB-46D8-B744-C1FF6DD31206}" type="slidenum">
              <a:t>4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Rona Rowe</cp:lastModifiedBy>
  <dcterms:modified xsi:type="dcterms:W3CDTF">2011-07-05T14:44:02Z</dcterms:modified>
  <cp:revision>427</cp:revision>
  <dc:subject/>
  <dc:title>PowerPoint-Präsentation</dc:title>
</cp:coreProperties>
</file>