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74A5-BD9B-4DBE-9C0D-CF96814E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8960" y="376560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4844-3350-4113-AFE7-B6A02640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97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73D7-4DFA-472C-AA70-03B1BD65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844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7828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896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844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7828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B0EB-0A81-4DDF-98D9-E16FCC63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03C2-EDEE-48B6-804B-2344725F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9DBD-CB70-4742-81E1-368BA344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C3D6-A2A3-4351-8954-D3B753C4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D043-EF76-42D0-8F46-A6172870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8960" y="-360"/>
            <a:ext cx="792468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33B1-9CF4-4F06-B6B3-4F54DD7D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6D15-752F-42F8-8CBE-B5F68050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97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AD33-1D6E-4F84-A318-E6667251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961D-ABED-488B-823A-126AF13B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88E8-F7D0-4747-8590-23D9A5DF1244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1932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0" y="27907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3812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848720" y="76320"/>
            <a:ext cx="1218960" cy="12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sb-w.de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sb-w.de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sb-w.de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006960"/>
            <a:ext cx="80643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024600"/>
            <a:ext cx="8686800" cy="833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2e8a"/>
                </a:solidFill>
                <a:latin typeface="Trebuchet MS"/>
                <a:ea typeface="Arial"/>
              </a:rPr>
              <a:t>Institute for systemic consulting, Wiesloch (Germany)</a:t>
            </a:r>
            <a:r>
              <a:rPr b="1" lang="de-DE" sz="18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8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Century Gothic"/>
                <a:ea typeface="Arial"/>
                <a:hlinkClick r:id="rId1"/>
              </a:rPr>
              <a:t>www.isb-w.de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098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2095560"/>
            <a:ext cx="7632720" cy="26668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2e8a"/>
                </a:solidFill>
                <a:latin typeface="Trebuchet MS"/>
              </a:rPr>
              <a:t>2 Communication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773C-9A99-4245-B897-FC614D977672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626436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Transform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7924680" cy="4559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Frame of reference/culture: Metaprogram which organizes roles and plays.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Professional roles activate frame of references and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Frames of reference activate roles and the interplay of roles.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7501-011C-4511-B8B8-CAF60910E3C1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52140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Encounter of re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561440" cy="4997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Essential communicative competence: clarifying and creating frames of reference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consciously regulating attention on clients and also on professional steps to encounter of realities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internal and external creating of reality and establishing a shared reality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5113-DAB0-42B2-B2D6-B354C349548E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6006960"/>
            <a:ext cx="80643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6024600"/>
            <a:ext cx="8686800" cy="833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2e8a"/>
                </a:solidFill>
                <a:latin typeface="Trebuchet MS"/>
                <a:ea typeface="Arial"/>
              </a:rPr>
              <a:t>Institute for systemic consulting, Wiesloch (Germany)</a:t>
            </a:r>
            <a:r>
              <a:rPr b="1" lang="de-DE" sz="18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8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Century Gothic"/>
                <a:ea typeface="Arial"/>
                <a:hlinkClick r:id="rId1"/>
              </a:rPr>
              <a:t>www.isb-w.de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098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2095560"/>
            <a:ext cx="7467840" cy="26668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2e8a"/>
                </a:solidFill>
                <a:latin typeface="Trebuchet MS"/>
              </a:rPr>
              <a:t>The dialogue model of commun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E372-3450-4532-910D-D5CD42FAF085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6408720" cy="13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e8a"/>
                </a:solidFill>
                <a:latin typeface="Trebuchet MS"/>
              </a:rPr>
              <a:t>Dialogue model of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704360" cy="4008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0355-348D-491B-A8CF-3049EE249BE1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6553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e8a"/>
                </a:solidFill>
                <a:latin typeface="Trebuchet MS"/>
              </a:rPr>
              <a:t>Dialogue model of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925040" cy="4559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Refers to the intuition concepts of Berne,Jung and Erickso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Shows how methodical and intuitive levels of communication together contribute to co-created realitie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Professional competence and organizational culture depend on focussed dialogues between these sphere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Analytical and methodological processes on the surface, in dialogue with intuitive, creative, meaningful background forces, set the stage for personal and professional self-guidance and for performance and vitality in complex organizations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F8D8-B630-464E-BCA5-C56023613CFC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6732720" cy="13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8a"/>
                </a:solidFill>
                <a:latin typeface="Trebuchet MS"/>
              </a:rPr>
              <a:t>"</a:t>
            </a:r>
            <a:r>
              <a:rPr b="1" lang="de-DE" sz="3200" spc="-1" strike="noStrike">
                <a:solidFill>
                  <a:srgbClr val="002e8a"/>
                </a:solidFill>
                <a:latin typeface="Trebuchet MS"/>
              </a:rPr>
              <a:t>Narrative</a:t>
            </a:r>
            <a:r>
              <a:rPr b="1" lang="en-US" sz="3200" spc="-1" strike="noStrike">
                <a:solidFill>
                  <a:srgbClr val="002e8a"/>
                </a:solidFill>
                <a:latin typeface="Trebuchet MS"/>
              </a:rPr>
              <a:t>"</a:t>
            </a:r>
            <a:r>
              <a:rPr b="1" lang="de-DE" sz="3200" spc="-1" strike="noStrike">
                <a:solidFill>
                  <a:srgbClr val="002e8a"/>
                </a:solidFill>
                <a:latin typeface="Trebuchet MS"/>
              </a:rPr>
              <a:t> dimensions of who or what meets in the dialogu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1676520"/>
            <a:ext cx="792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3336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5768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690640" y="1844640"/>
            <a:ext cx="3619440" cy="3736440"/>
            <a:chOff x="2690640" y="1844640"/>
            <a:chExt cx="3619440" cy="3736440"/>
          </a:xfrm>
        </p:grpSpPr>
        <p:sp>
          <p:nvSpPr>
            <p:cNvPr id="111" name=""/>
            <p:cNvSpPr/>
            <p:nvPr/>
          </p:nvSpPr>
          <p:spPr>
            <a:xfrm rot="5400000">
              <a:off x="4119120" y="415800"/>
              <a:ext cx="762120" cy="361944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cap="sq" w="25560">
              <a:solidFill>
                <a:srgbClr val="002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4119120" y="1330200"/>
              <a:ext cx="762120" cy="361944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cap="sq" w="25560">
              <a:solidFill>
                <a:srgbClr val="002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4119120" y="2244600"/>
              <a:ext cx="762120" cy="361944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cap="sq" w="25560">
              <a:solidFill>
                <a:srgbClr val="002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005000" y="3273480"/>
              <a:ext cx="990720" cy="361944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cap="sq" w="25560">
              <a:solidFill>
                <a:srgbClr val="002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35240" y="19969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2e8a"/>
                  </a:solidFill>
                  <a:latin typeface="Tahoma"/>
                </a:rPr>
                <a:t>Behavi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09680" y="29113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2e8a"/>
                  </a:solidFill>
                  <a:latin typeface="Tahoma"/>
                </a:rPr>
                <a:t>Attitu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09680" y="3825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2e8a"/>
                  </a:solidFill>
                  <a:latin typeface="Tahoma"/>
                </a:rPr>
                <a:t>Personal myth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71520" y="4664160"/>
              <a:ext cx="274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2e8a"/>
                  </a:solidFill>
                  <a:latin typeface="Tahoma"/>
                </a:rPr>
                <a:t>Myths +traditions from other backgroun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DC5C-BE9D-4B9A-BAD7-C12C9CC456B1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52140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Foreground </a:t>
            </a:r>
            <a:r>
              <a:rPr b="1" lang="de-DE" sz="3200" spc="-1" strike="noStrike">
                <a:solidFill>
                  <a:srgbClr val="00318a"/>
                </a:solidFill>
                <a:latin typeface="Wingdings"/>
                <a:ea typeface="Wingdings"/>
              </a:rPr>
              <a:t></a:t>
            </a: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&gt; Background are observer</a:t>
            </a: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'</a:t>
            </a: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s catego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920000" cy="4970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rebuchet MS"/>
              </a:rPr>
              <a:t>What is considered as foreground? / in which context?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rebuchet MS"/>
              </a:rPr>
              <a:t>Clinical TA: psychological and developmental background (motivation, re-enacting, biography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rebuchet MS"/>
              </a:rPr>
              <a:t>Organizational work: needs more dimensions of reality like organizational roles, structures, market dynamics, technical and economical criteria in shaping processes (content and context)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rebuchet MS"/>
              </a:rPr>
              <a:t>Others: meeting of society forces of all kind (e.g. milieu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9994-F777-48B3-887A-2CF657580DE9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52140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538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rebuchet MS"/>
              </a:rPr>
              <a:t>Not habitually bringing background to the foreground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rebuchet MS"/>
              </a:rPr>
              <a:t>Create and take care of useful foreground communicatio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rebuchet MS"/>
              </a:rPr>
              <a:t>In accordance and/or dialogue with helpful background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rebuchet MS"/>
              </a:rPr>
              <a:t>Sensitive to background forces at work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rebuchet MS"/>
              </a:rPr>
              <a:t>Leave room for what is creating itself intuitively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rebuchet MS"/>
              </a:rPr>
              <a:t>Meta-communication if necessary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CF17-FBEC-4686-AC0F-3B92BFE16A00}" type="slidenum">
              <a:t>17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006960"/>
            <a:ext cx="80643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024600"/>
            <a:ext cx="8686800" cy="833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2e8a"/>
                </a:solidFill>
                <a:latin typeface="Trebuchet MS"/>
                <a:ea typeface="Arial"/>
              </a:rPr>
              <a:t>Institute for systemic consulting, Wiesloch (Germany)</a:t>
            </a:r>
            <a:r>
              <a:rPr b="1" lang="de-DE" sz="18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8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Century Gothic"/>
                <a:ea typeface="Arial"/>
                <a:hlinkClick r:id="rId1"/>
              </a:rPr>
              <a:t>www.isb-w.de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098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2095560"/>
            <a:ext cx="7467840" cy="26668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2e8a"/>
                </a:solidFill>
                <a:latin typeface="Trebuchet MS"/>
              </a:rPr>
              <a:t>The cultural encounter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2e8a"/>
                </a:solidFill>
                <a:latin typeface="Trebuchet MS"/>
              </a:rPr>
              <a:t> </a:t>
            </a:r>
            <a:r>
              <a:rPr b="1" lang="de-DE" sz="3600" spc="-1" strike="noStrike">
                <a:solidFill>
                  <a:srgbClr val="002e8a"/>
                </a:solidFill>
                <a:latin typeface="Trebuchet MS"/>
              </a:rPr>
              <a:t>of commun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725C-3B27-4DC9-998D-82352CC63277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0"/>
            <a:ext cx="6626160" cy="13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e8a"/>
                </a:solidFill>
                <a:latin typeface="Trebuchet MS"/>
              </a:rPr>
              <a:t>Model of </a:t>
            </a:r>
            <a:r>
              <a:rPr b="1" lang="en-US" sz="3200" spc="-1" strike="noStrike">
                <a:solidFill>
                  <a:srgbClr val="002e8a"/>
                </a:solidFill>
                <a:latin typeface="Trebuchet MS"/>
              </a:rPr>
              <a:t>'</a:t>
            </a:r>
            <a:r>
              <a:rPr b="1" lang="de-DE" sz="3200" spc="-1" strike="noStrike">
                <a:solidFill>
                  <a:srgbClr val="002e8a"/>
                </a:solidFill>
                <a:latin typeface="Trebuchet MS"/>
              </a:rPr>
              <a:t>mechanical</a:t>
            </a:r>
            <a:r>
              <a:rPr b="1" lang="en-US" sz="3200" spc="-1" strike="noStrike">
                <a:solidFill>
                  <a:srgbClr val="002e8a"/>
                </a:solidFill>
                <a:latin typeface="Trebuchet MS"/>
              </a:rPr>
              <a:t>'</a:t>
            </a:r>
            <a:r>
              <a:rPr b="1" lang="de-DE" sz="3200" spc="-1" strike="noStrike">
                <a:solidFill>
                  <a:srgbClr val="002e8a"/>
                </a:solidFill>
                <a:latin typeface="Trebuchet MS"/>
              </a:rPr>
              <a:t>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2205000"/>
            <a:ext cx="792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330200" y="3284640"/>
            <a:ext cx="7151400" cy="837720"/>
            <a:chOff x="1330200" y="3284640"/>
            <a:chExt cx="7151400" cy="837720"/>
          </a:xfrm>
        </p:grpSpPr>
        <p:sp>
          <p:nvSpPr>
            <p:cNvPr id="59" name=""/>
            <p:cNvSpPr/>
            <p:nvPr/>
          </p:nvSpPr>
          <p:spPr>
            <a:xfrm>
              <a:off x="1330200" y="3284640"/>
              <a:ext cx="2161080" cy="6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2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20880" y="3284640"/>
              <a:ext cx="2160720" cy="698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2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75160" y="3430080"/>
              <a:ext cx="1204920" cy="27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SA" sz="2000" spc="-1" strike="noStrike">
                  <a:solidFill>
                    <a:srgbClr val="002e8a"/>
                  </a:solidFill>
                  <a:latin typeface="Trebuchet MS"/>
                </a:rPr>
                <a:t>Sender </a:t>
              </a:r>
              <a:r>
                <a:rPr b="1" i="1" lang="de-DE" sz="2000" spc="-1" strike="noStrike">
                  <a:solidFill>
                    <a:srgbClr val="002e8a"/>
                  </a:solidFill>
                  <a:latin typeface="Trebuchet MS"/>
                </a:rPr>
                <a:t>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52880" y="3494160"/>
              <a:ext cx="1530720" cy="27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SA" sz="2000" spc="-1" strike="noStrike">
                  <a:solidFill>
                    <a:srgbClr val="002e8a"/>
                  </a:solidFill>
                  <a:latin typeface="Trebuchet MS"/>
                </a:rPr>
                <a:t>Receiver </a:t>
              </a:r>
              <a:r>
                <a:rPr b="1" i="1" lang="de-DE" sz="2000" spc="-1" strike="noStrike">
                  <a:solidFill>
                    <a:srgbClr val="002e8a"/>
                  </a:solidFill>
                  <a:latin typeface="Trebuchet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37400" y="3366000"/>
              <a:ext cx="3251880" cy="75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40040" y="3482280"/>
              <a:ext cx="20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2e8a"/>
                  </a:solidFill>
                  <a:latin typeface="Trebuchet MS"/>
                </a:rPr>
                <a:t>Chan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4D88-722E-4734-B9FF-480867DF3B7F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6696000" cy="1358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e8a"/>
                </a:solidFill>
                <a:latin typeface="Trebuchet MS"/>
              </a:rPr>
              <a:t>Model of communication as cultural encou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869760" y="2514600"/>
            <a:ext cx="2857320" cy="1615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660" y="214"/>
                </a:moveTo>
                <a:arcTo wR="10800" hR="10800" stAng="-6085644" swAng="12255803"/>
                <a:lnTo>
                  <a:pt x="10800" y="10800"/>
                </a:lnTo>
                <a:close/>
              </a:path>
              <a:path fill="none" w="21600" h="21600">
                <a:moveTo>
                  <a:pt x="8660" y="214"/>
                </a:moveTo>
                <a:arcTo wR="10800" hR="10800" stAng="-6085644" swAng="12255803"/>
              </a:path>
            </a:pathLst>
          </a:custGeom>
          <a:noFill/>
          <a:ln w="25560">
            <a:solidFill>
              <a:srgbClr val="002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46520" y="2552760"/>
            <a:ext cx="1828800" cy="1547640"/>
          </a:xfrm>
          <a:prstGeom prst="ellipse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002e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e8a"/>
                </a:solidFill>
                <a:latin typeface="Tahoma"/>
              </a:rPr>
              <a:t>Commu-    nication / encou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0922400">
            <a:off x="5563440" y="2531880"/>
            <a:ext cx="2856960" cy="1740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2" y="572"/>
                </a:moveTo>
                <a:arcTo wR="10800" hR="10800" stAng="-6523802" swAng="12811989"/>
                <a:lnTo>
                  <a:pt x="10800" y="10800"/>
                </a:lnTo>
                <a:close/>
              </a:path>
              <a:path fill="none" w="21600" h="21600">
                <a:moveTo>
                  <a:pt x="7332" y="572"/>
                </a:moveTo>
                <a:arcTo wR="10800" hR="10800" stAng="-6523802" swAng="12811989"/>
              </a:path>
            </a:pathLst>
          </a:custGeom>
          <a:noFill/>
          <a:ln w="25560">
            <a:solidFill>
              <a:srgbClr val="002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01720" y="2817720"/>
            <a:ext cx="1725840" cy="10573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e8a"/>
                </a:solidFill>
                <a:latin typeface="Tahoma"/>
              </a:rPr>
              <a:t>Reality of person or system</a:t>
            </a:r>
            <a:r>
              <a:rPr b="1" lang="de-DE" sz="2000" spc="-1" strike="noStrike">
                <a:solidFill>
                  <a:srgbClr val="002e8a"/>
                </a:solidFill>
                <a:latin typeface="Tahoma"/>
              </a:rPr>
              <a:t>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64320" y="2895480"/>
            <a:ext cx="1641240" cy="960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e8a"/>
                </a:solidFill>
                <a:latin typeface="Tahoma"/>
              </a:rPr>
              <a:t>Reality of person or system</a:t>
            </a:r>
            <a:r>
              <a:rPr b="1" lang="de-DE" sz="2000" spc="-1" strike="noStrike">
                <a:solidFill>
                  <a:srgbClr val="002e8a"/>
                </a:solidFill>
                <a:latin typeface="Tahoma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4876920"/>
            <a:ext cx="533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9D22-E072-4027-A3BA-B65FB14DC2BF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6626160" cy="100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Implications of the cultural encounter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1844640"/>
            <a:ext cx="82818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describes communication as encounter of cultures (personal, professional, regional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does not assume that mutual understanding is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each communicator involved is predominantly orientated to his/her own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necessary to study the realities of the sender and of the recip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assumes that creating shared reality is a necessary extra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A5C9-51ED-4A91-A507-674118AF578F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6410160" cy="100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Encounter levels of communic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049800" cy="4129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6F47-06B4-484C-95DB-9AEB19DAE6F5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6265800" cy="100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Roots and transformation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1773360"/>
            <a:ext cx="77040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based on Schiff et al.1975 (discount leve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problems usually appear on level 4 but are due to mismatching on levels 1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changes in Schiff</a:t>
            </a:r>
            <a:r>
              <a:rPr b="0" lang="en-US" sz="2800" spc="-1" strike="noStrike">
                <a:solidFill>
                  <a:srgbClr val="00318a"/>
                </a:solidFill>
                <a:latin typeface="Trebuchet MS"/>
              </a:rPr>
              <a:t>'</a:t>
            </a: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s terminology in order to describe relationships between equ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shows different levels of shared frames of reference, which build up into shared rea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A785-A029-4CEA-87C7-4A83090E3F5E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648180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Transformations of cathexis concepts by Bernd Schm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488360" cy="460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18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Discount </a:t>
            </a:r>
            <a:r>
              <a:rPr b="0" lang="de-DE" sz="2800" spc="-1" strike="noStrike">
                <a:solidFill>
                  <a:srgbClr val="00318a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 + account + recount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18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Redefine </a:t>
            </a:r>
            <a:r>
              <a:rPr b="0" lang="de-DE" sz="2800" spc="-1" strike="noStrike">
                <a:solidFill>
                  <a:srgbClr val="00318a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 + define + co-define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18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Discount levels </a:t>
            </a:r>
            <a:r>
              <a:rPr b="0" lang="de-DE" sz="2800" spc="-1" strike="noStrike">
                <a:solidFill>
                  <a:srgbClr val="00318a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 levels of matching realities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18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Symbiosis </a:t>
            </a:r>
            <a:r>
              <a:rPr b="0" lang="de-DE" sz="2800" spc="-1" strike="noStrike">
                <a:solidFill>
                  <a:srgbClr val="00318a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 enlargements of horizons (e.g. organizations) </a:t>
            </a:r>
            <a:r>
              <a:rPr b="0" lang="de-DE" sz="2800" spc="-1" strike="noStrike">
                <a:solidFill>
                  <a:srgbClr val="00318a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 responsibility dialogues + -culture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8F1B-1C90-4D5C-B90B-6346194C1889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633744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Based on Schiff et. al.</a:t>
            </a:r>
            <a:br>
              <a:rPr sz="3200"/>
            </a:b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Cathexis rea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488000" cy="4559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Frame of reference: a meta program which integrates all ego-states and their interaction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The ego-states activate frames of reference and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Frames of reference activate ego-states and interactions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34CB-6079-4323-BBE2-FB90D7B650D9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11:18:09Z</dcterms:created>
  <dc:creator>Institut für systemische Beratung</dc:creator>
  <dc:description/>
  <dc:language>en-US</dc:language>
  <cp:lastModifiedBy>Rona Rowe</cp:lastModifiedBy>
  <dcterms:modified xsi:type="dcterms:W3CDTF">2011-07-05T14:35:39Z</dcterms:modified>
  <cp:revision>428</cp:revision>
  <dc:subject/>
  <dc:title>PowerPoint-Präsentation</dc:title>
</cp:coreProperties>
</file>