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92C-EF79-40E3-800F-F55F7F9A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B27-B8EB-4D28-9500-E8851B85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C09-65E0-4439-B93A-341A5072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844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78280" y="138384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844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78280" y="3765600"/>
            <a:ext cx="2551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7AF-78FF-4C9A-A5AB-49E7038E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505-9F7D-464F-AA62-BB496913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293-0BE3-4B2A-AF18-70F96A38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446-8A61-4525-863F-D1EE480B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EAF-7D5E-4E6F-8100-685A6985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-360"/>
            <a:ext cx="79246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A2A-602D-4BEB-8960-FCD316B7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350-26D8-4F6D-A2E4-93602C21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9760" y="376560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E86-C824-40C2-9485-BBFB559B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9760" y="1383840"/>
            <a:ext cx="38671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765600"/>
            <a:ext cx="79246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BBE-9F46-41C4-B5D1-B3A39336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FB54-A149-4843-A3FC-E6F0909BF9B1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18960" y="1383840"/>
            <a:ext cx="792468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0" y="2790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812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21896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sb-w.de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sb-w.de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sb-w.de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006960"/>
            <a:ext cx="80643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024600"/>
            <a:ext cx="8686800" cy="833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2e8a"/>
                </a:solidFill>
                <a:latin typeface="Trebuchet MS"/>
                <a:ea typeface="Arial"/>
              </a:rPr>
              <a:t>Institute for systemic consulting, Wiesloch (Germany)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Century Gothic"/>
                <a:ea typeface="Arial"/>
                <a:hlinkClick r:id="rId1"/>
              </a:rPr>
              <a:t>www.isb-w.de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2095560"/>
            <a:ext cx="7632720" cy="2666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2 Communication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025-BC02-4F0D-87A5-56E5B617260A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626436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Transform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924680" cy="4559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Frame of reference/culture: Metaprogram which organizes roles and plays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Professional roles activate frame of references and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Frames of reference activate roles and the interplay of roles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066-BAFA-4D0B-B3DD-262D649F6364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5214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Encounter of re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561440" cy="4997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Essential communicative competence: clarifying and creating frames of referenc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consciously regulating attention on clients and also on professional steps to encounter of realitie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internal and external creating of reality and establishing a shared reality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6C6-CA12-4607-9A87-96FE732AC9D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6006960"/>
            <a:ext cx="80643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6024600"/>
            <a:ext cx="8686800" cy="833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2e8a"/>
                </a:solidFill>
                <a:latin typeface="Trebuchet MS"/>
                <a:ea typeface="Arial"/>
              </a:rPr>
              <a:t>Institute for systemic consulting, Wiesloch (Germany)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Century Gothic"/>
                <a:ea typeface="Arial"/>
                <a:hlinkClick r:id="rId1"/>
              </a:rPr>
              <a:t>www.isb-w.de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2095560"/>
            <a:ext cx="7467840" cy="2666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The dialogue model of 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756-6C25-4909-9D6C-2FAEC8BE3E0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408720" cy="13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Dialogue model of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704360" cy="4008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B72-6B3C-4A4C-B78C-E091CF2A175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553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Dialogue model of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925040" cy="4559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Refers to the intuition concepts of Berne,Jung and Ericks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Shows how methodical and intuitive levels of communication together contribute to co-created realiti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Professional competence and organizational culture depend on focussed dialogues between these spher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Analytical and methodological processes on the surface, in dialogue with intuitive, creative, meaningful background forces, set the stage for personal and professional self-guidance and for performance and vitality in complex organizations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35B-427B-4D7E-AB2B-90ECDD7B5D1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732720" cy="13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"</a:t>
            </a: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Narrative</a:t>
            </a: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"</a:t>
            </a: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 dimensions of who or what meets in the dialogu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67652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333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576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690640" y="1844640"/>
            <a:ext cx="3619440" cy="3736440"/>
            <a:chOff x="2690640" y="1844640"/>
            <a:chExt cx="3619440" cy="3736440"/>
          </a:xfrm>
        </p:grpSpPr>
        <p:sp>
          <p:nvSpPr>
            <p:cNvPr id="111" name=""/>
            <p:cNvSpPr/>
            <p:nvPr/>
          </p:nvSpPr>
          <p:spPr>
            <a:xfrm rot="5400000">
              <a:off x="4119120" y="415800"/>
              <a:ext cx="762120" cy="36194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cap="sq" w="2556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4119120" y="1330200"/>
              <a:ext cx="762120" cy="36194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cap="sq" w="2556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4119120" y="2244600"/>
              <a:ext cx="762120" cy="36194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cap="sq" w="2556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005000" y="3273480"/>
              <a:ext cx="990720" cy="36194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cap="sq" w="2556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35240" y="19969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2e8a"/>
                  </a:solidFill>
                  <a:latin typeface="Tahoma"/>
                </a:rPr>
                <a:t>Behavi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09680" y="29113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2e8a"/>
                  </a:solidFill>
                  <a:latin typeface="Tahoma"/>
                </a:rPr>
                <a:t>Attitu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09680" y="3825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2e8a"/>
                  </a:solidFill>
                  <a:latin typeface="Tahoma"/>
                </a:rPr>
                <a:t>Personal my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71520" y="466416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2e8a"/>
                  </a:solidFill>
                  <a:latin typeface="Tahoma"/>
                </a:rPr>
                <a:t>Myths +traditions from other backgrou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828-B91B-47AB-A5DF-94C11C34562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5214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Foreground </a:t>
            </a:r>
            <a:r>
              <a:rPr b="1" lang="de-DE" sz="3200" spc="-1" strike="noStrike">
                <a:solidFill>
                  <a:srgbClr val="00318a"/>
                </a:solidFill>
                <a:latin typeface="Wingdings"/>
                <a:ea typeface="Wingdings"/>
              </a:rPr>
              <a:t></a:t>
            </a: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&gt; Background are observer</a:t>
            </a:r>
            <a:r>
              <a:rPr b="1" lang="en-US" sz="3200" spc="-1" strike="noStrike">
                <a:solidFill>
                  <a:srgbClr val="00318a"/>
                </a:solidFill>
                <a:latin typeface="Trebuchet MS"/>
              </a:rPr>
              <a:t>'</a:t>
            </a: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s catego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920000" cy="4970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What is considered as foreground? / in which context?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Clinical TA: psychological and developmental background (motivation, re-enacting, biography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Organizational work: needs more dimensions of reality like organizational roles, structures, market dynamics, technical and economical criteria in shaping processes (content and context)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Others: meeting of society forces of all kind (e.g. milieu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D99-3318-47DB-A7CB-A67CFF13CCA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5214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538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Not habitually bringing background to the foreground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Create and take care of useful foreground communicat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In accordance and/or dialogue with helpful background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Sensitive to background forces at work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Leave room for what is creating itself intuitivel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Trebuchet MS"/>
              </a:rPr>
              <a:t>Meta-communication if necessar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7EA-1BE6-4FE4-8262-46FD78F16103}" type="slidenum">
              <a:t>17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006960"/>
            <a:ext cx="80643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024600"/>
            <a:ext cx="8686800" cy="833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2e8a"/>
                </a:solidFill>
                <a:latin typeface="Trebuchet MS"/>
                <a:ea typeface="Arial"/>
              </a:rPr>
              <a:t>Institute for systemic consulting, Wiesloch (Germany)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8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Century Gothic"/>
                <a:ea typeface="Arial"/>
                <a:hlinkClick r:id="rId1"/>
              </a:rPr>
              <a:t>www.isb-w.de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r>
              <a:rPr b="1" lang="de-DE" sz="1400" spc="-1" strike="noStrike">
                <a:solidFill>
                  <a:srgbClr val="002e8a"/>
                </a:solidFill>
                <a:latin typeface="Century Gothic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098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2095560"/>
            <a:ext cx="7467840" cy="2666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The cultural encounter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 </a:t>
            </a:r>
            <a:r>
              <a:rPr b="1" lang="de-DE" sz="3600" spc="-1" strike="noStrike">
                <a:solidFill>
                  <a:srgbClr val="002e8a"/>
                </a:solidFill>
                <a:latin typeface="Trebuchet MS"/>
              </a:rPr>
              <a:t>of 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6BB-2692-46F2-982F-15B71D4D683C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0"/>
            <a:ext cx="6626160" cy="13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Model of </a:t>
            </a: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'</a:t>
            </a: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mechanical</a:t>
            </a:r>
            <a:r>
              <a:rPr b="1" lang="en-US" sz="3200" spc="-1" strike="noStrike">
                <a:solidFill>
                  <a:srgbClr val="002e8a"/>
                </a:solidFill>
                <a:latin typeface="Trebuchet MS"/>
              </a:rPr>
              <a:t>'</a:t>
            </a: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220500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30200" y="3284640"/>
            <a:ext cx="7151400" cy="837720"/>
            <a:chOff x="1330200" y="3284640"/>
            <a:chExt cx="7151400" cy="837720"/>
          </a:xfrm>
        </p:grpSpPr>
        <p:sp>
          <p:nvSpPr>
            <p:cNvPr id="59" name=""/>
            <p:cNvSpPr/>
            <p:nvPr/>
          </p:nvSpPr>
          <p:spPr>
            <a:xfrm>
              <a:off x="1330200" y="3284640"/>
              <a:ext cx="2161080" cy="6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20880" y="3284640"/>
              <a:ext cx="2160720" cy="698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75160" y="3430080"/>
              <a:ext cx="1204920" cy="2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SA" sz="2000" spc="-1" strike="noStrike">
                  <a:solidFill>
                    <a:srgbClr val="002e8a"/>
                  </a:solidFill>
                  <a:latin typeface="Trebuchet MS"/>
                </a:rPr>
                <a:t>Sender </a:t>
              </a:r>
              <a:r>
                <a:rPr b="1" i="1" lang="de-DE" sz="2000" spc="-1" strike="noStrike">
                  <a:solidFill>
                    <a:srgbClr val="002e8a"/>
                  </a:solidFill>
                  <a:latin typeface="Trebuchet MS"/>
                </a:rPr>
                <a:t>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52880" y="3494160"/>
              <a:ext cx="1530720" cy="2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SA" sz="2000" spc="-1" strike="noStrike">
                  <a:solidFill>
                    <a:srgbClr val="002e8a"/>
                  </a:solidFill>
                  <a:latin typeface="Trebuchet MS"/>
                </a:rPr>
                <a:t>Receiver </a:t>
              </a:r>
              <a:r>
                <a:rPr b="1" i="1" lang="de-DE" sz="2000" spc="-1" strike="noStrike">
                  <a:solidFill>
                    <a:srgbClr val="002e8a"/>
                  </a:solidFill>
                  <a:latin typeface="Trebuchet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37400" y="3366000"/>
              <a:ext cx="3251880" cy="7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40040" y="348228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2e8a"/>
                  </a:solidFill>
                  <a:latin typeface="Trebuchet MS"/>
                </a:rPr>
                <a:t>Chan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855-46D5-409C-A177-245D0769C71B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696000" cy="135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e8a"/>
                </a:solidFill>
                <a:latin typeface="Trebuchet MS"/>
              </a:rPr>
              <a:t>Model of communication as cultural en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869760" y="2514600"/>
            <a:ext cx="2857320" cy="161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660" y="214"/>
                </a:moveTo>
                <a:arcTo wR="10800" hR="10800" stAng="-6085644" swAng="12255803"/>
                <a:lnTo>
                  <a:pt x="10800" y="10800"/>
                </a:lnTo>
                <a:close/>
              </a:path>
              <a:path fill="none" w="21600" h="21600">
                <a:moveTo>
                  <a:pt x="8660" y="214"/>
                </a:moveTo>
                <a:arcTo wR="10800" hR="10800" stAng="-6085644" swAng="12255803"/>
              </a:path>
            </a:pathLst>
          </a:custGeom>
          <a:noFill/>
          <a:ln w="25560">
            <a:solidFill>
              <a:srgbClr val="002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46520" y="2552760"/>
            <a:ext cx="1828800" cy="1547640"/>
          </a:xfrm>
          <a:prstGeom prst="ellipse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2e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e8a"/>
                </a:solidFill>
                <a:latin typeface="Tahoma"/>
              </a:rPr>
              <a:t>Commu-    nication / enco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0922400">
            <a:off x="5563440" y="2531880"/>
            <a:ext cx="2856960" cy="174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2" y="572"/>
                </a:moveTo>
                <a:arcTo wR="10800" hR="10800" stAng="-6523802" swAng="12811989"/>
                <a:lnTo>
                  <a:pt x="10800" y="10800"/>
                </a:lnTo>
                <a:close/>
              </a:path>
              <a:path fill="none" w="21600" h="21600">
                <a:moveTo>
                  <a:pt x="7332" y="572"/>
                </a:moveTo>
                <a:arcTo wR="10800" hR="10800" stAng="-6523802" swAng="12811989"/>
              </a:path>
            </a:pathLst>
          </a:custGeom>
          <a:noFill/>
          <a:ln w="25560">
            <a:solidFill>
              <a:srgbClr val="002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01720" y="2817720"/>
            <a:ext cx="1725840" cy="10573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e8a"/>
                </a:solidFill>
                <a:latin typeface="Tahoma"/>
              </a:rPr>
              <a:t>Reality of person or system</a:t>
            </a:r>
            <a:r>
              <a:rPr b="1" lang="de-DE" sz="2000" spc="-1" strike="noStrike">
                <a:solidFill>
                  <a:srgbClr val="002e8a"/>
                </a:solidFill>
                <a:latin typeface="Tahoma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64320" y="2895480"/>
            <a:ext cx="1641240" cy="960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e8a"/>
                </a:solidFill>
                <a:latin typeface="Tahoma"/>
              </a:rPr>
              <a:t>Reality of person or system</a:t>
            </a:r>
            <a:r>
              <a:rPr b="1" lang="de-DE" sz="2000" spc="-1" strike="noStrike">
                <a:solidFill>
                  <a:srgbClr val="002e8a"/>
                </a:solidFill>
                <a:latin typeface="Tahoma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4876920"/>
            <a:ext cx="533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C92-71BF-41CF-AFB1-37FABADCF627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662616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Implications of the cultural encounter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844640"/>
            <a:ext cx="82818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describes communication as encounter of cultures (personal, professional, regional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does not assume that mutual understanding 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each communicator involved is predominantly orientated to his/her own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necessary to study the realities of the sender and of the recip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18a"/>
                </a:solidFill>
                <a:latin typeface="Trebuchet MS"/>
              </a:rPr>
              <a:t>assumes that creating shared reality is a necessary extra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9F1-75C4-4ABD-8973-DD44FE6495AF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41016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Encounter levels of communic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049800" cy="4129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FE0-CF89-423D-A8FA-B69FFC3A807D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265800" cy="100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Roots and transformatio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1773360"/>
            <a:ext cx="77040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based on Schiff et al.1975 (discount lev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problems usually appear on level 4 but are due to mismatching on levels 1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changes in Schiff</a:t>
            </a:r>
            <a:r>
              <a:rPr b="0" lang="en-US" sz="2800" spc="-1" strike="noStrike">
                <a:solidFill>
                  <a:srgbClr val="00318a"/>
                </a:solidFill>
                <a:latin typeface="Trebuchet MS"/>
              </a:rPr>
              <a:t>'</a:t>
            </a: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s terminology in order to describe relationships between eq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18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shows different levels of shared frames of reference, which build up into shared re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CD7-EC82-4918-AE17-6786611CB24E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48180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Transformations of cathexis concepts by Bernd Schm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488360" cy="460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Discount </a:t>
            </a:r>
            <a:r>
              <a:rPr b="0" lang="de-DE" sz="2800" spc="-1" strike="noStrike">
                <a:solidFill>
                  <a:srgbClr val="00318a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 + account + recoun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Redefine </a:t>
            </a:r>
            <a:r>
              <a:rPr b="0" lang="de-DE" sz="2800" spc="-1" strike="noStrike">
                <a:solidFill>
                  <a:srgbClr val="00318a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 + define + co-defin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Discount levels </a:t>
            </a:r>
            <a:r>
              <a:rPr b="0" lang="de-DE" sz="2800" spc="-1" strike="noStrike">
                <a:solidFill>
                  <a:srgbClr val="00318a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 levels of matching realitie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18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Symbiosis </a:t>
            </a:r>
            <a:r>
              <a:rPr b="0" lang="de-DE" sz="2800" spc="-1" strike="noStrike">
                <a:solidFill>
                  <a:srgbClr val="00318a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 enlargements of horizons (e.g. organizations) </a:t>
            </a:r>
            <a:r>
              <a:rPr b="0" lang="de-DE" sz="2800" spc="-1" strike="noStrike">
                <a:solidFill>
                  <a:srgbClr val="00318a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318a"/>
                </a:solidFill>
                <a:latin typeface="Trebuchet MS"/>
              </a:rPr>
              <a:t> responsibility dialogues + -culture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F94-F8FD-472B-910A-D1C3C727782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6337440" cy="13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Based on Schiff et. al.</a:t>
            </a:r>
            <a:br>
              <a:rPr sz="3200"/>
            </a:br>
            <a:r>
              <a:rPr b="1" lang="de-DE" sz="3200" spc="-1" strike="noStrike">
                <a:solidFill>
                  <a:srgbClr val="00318a"/>
                </a:solidFill>
                <a:latin typeface="Trebuchet MS"/>
              </a:rPr>
              <a:t>Cathexis rea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488000" cy="4559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Frame of reference: a meta program which integrates all ego-states and their interactio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The ego-states activate frames of reference and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rebuchet MS"/>
              </a:rPr>
              <a:t>Frames of reference activate ego-states and interaction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1447920"/>
            <a:ext cx="4343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72E-5C71-4CEE-997D-47AE8B02ADE5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1:18:09Z</dcterms:created>
  <dc:creator>Institut für systemische Beratung</dc:creator>
  <dc:description/>
  <dc:language>en-US</dc:language>
  <cp:lastModifiedBy>Rona Rowe</cp:lastModifiedBy>
  <dcterms:modified xsi:type="dcterms:W3CDTF">2011-07-05T14:35:39Z</dcterms:modified>
  <cp:revision>428</cp:revision>
  <dc:subject/>
  <dc:title>PowerPoint-Präsentation</dc:title>
</cp:coreProperties>
</file>