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16C-1D9B-4881-AD83-C06EA47E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D14-0261-49AE-913E-6309978A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AD6-5A6C-413E-90EF-B203DF3E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964-935F-414E-B4F6-32DE5AB7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DBA-20DA-4325-833F-E5836253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F9E-626A-4A29-86DD-DB825EE5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6B6-C3E8-4486-BA29-42E07967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92B-D888-4DE8-A0FA-773CD51C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868-E160-48AA-913C-371941A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DAD-4F8D-4C91-8154-0C547CF2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02B-E0F3-4AC6-BA5D-8F91E9E9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D00-F171-4D9F-8958-3949110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 für systemische Beratung, Wiesloch</a:t>
            </a:r>
            <a:r>
              <a:rPr b="1" lang="en-US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057400"/>
            <a:ext cx="746748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e8a"/>
                </a:solidFill>
                <a:latin typeface="Trebuchet MS"/>
              </a:rPr>
              <a:t>Systemische TA kompakt</a:t>
            </a:r>
            <a:br>
              <a:rPr sz="3600"/>
            </a:br>
            <a:r>
              <a:rPr b="1" lang="en-US" sz="3600" spc="-1" strike="noStrike">
                <a:solidFill>
                  <a:srgbClr val="002e8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2e8a"/>
                </a:solidFill>
                <a:latin typeface="Trebuchet MS"/>
              </a:rPr>
              <a:t>Beziehungen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Spiele</a:t>
            </a:r>
            <a:br>
              <a:rPr sz="3600"/>
            </a:br>
            <a:r>
              <a:rPr b="1" lang="en-US" sz="1800" spc="-1" strike="noStrike">
                <a:solidFill>
                  <a:srgbClr val="002e8a"/>
                </a:solidFill>
                <a:latin typeface="Trebuchet MS"/>
              </a:rPr>
              <a:t>Leitung: 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8a"/>
                </a:solidFill>
                <a:latin typeface="Trebuchet MS"/>
              </a:rPr>
              <a:t>25.-27.06.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1294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Beispiel Organisationsbereich:</a:t>
            </a:r>
            <a:br>
              <a:rPr sz="2800"/>
            </a:b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Kooperation für Projekte in der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C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on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+ G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immik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= R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esponses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S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witch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X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Crossup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P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ayoff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Köder + Haken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Illusionen: großes Change Management + Elitechance + Macht/Geld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)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= Serie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lange ineffiziente Projektaktivitäten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)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echsel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Anspruch + Wirklichkeit geraten in Konflikt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)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Verblüffung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Illusionen werden deutlich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)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Endauszahlung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persönliche Bearbeitung + gesellschaftliche Folgen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Viele Player und nicht nur psychologische Einsätz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4760" y="-360"/>
            <a:ext cx="6593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Spielwirklichkeiten + </a:t>
            </a:r>
            <a:br>
              <a:rPr sz="3200"/>
            </a:b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irklichkeit durch Spi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924680" cy="5062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0557"/>
                </a:solidFill>
                <a:latin typeface="Trebuchet MS"/>
              </a:rPr>
              <a:t>„</a:t>
            </a:r>
            <a:r>
              <a:rPr b="0" lang="en-US" sz="2400" spc="-1" strike="noStrike">
                <a:solidFill>
                  <a:srgbClr val="850557"/>
                </a:solidFill>
                <a:latin typeface="Trebuchet MS"/>
              </a:rPr>
              <a:t>Das Erkenntnisinteresse ruft auch die Wirklichkeiten wach, auf die es sich richtet“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Schmid/Gérard 2008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Spielanalyse kreiert Spiel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Meta-Spiele (Wir finden verschüttete Traumata, Missbrauch, verdrängte Gefühle, unerkannte Delegationen 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Notwendig? Zum Kontext passend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Relevanz? Alternativen? (Aufmerksamkeitssteuerung + Kultur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272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Prävention von Spielen (+ anderem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558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Wenig Grandiositäten + Illusionen 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z.B. ( Bedürfnisse + Interessen 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   Notwendigkeiten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Die eigenen Strebungen und  Mythen kennenlern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Auf sinnvolle und maßvolle Wirklichkeiten Wert leg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keine Tabus, Konfrontation + Dialog fördern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Professionelle Identität + Kompetenz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92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Spiel = Beobachterkatego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Die ausgeschnittenen Sequenzen werden durch den Analytiker entsprechend seiner Fragestellung getroffen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Ereignisfolgen werden interpunktiert (WATZLAWICK, 1972), bestimmte Einheiten als Anfangsreiz und bestimmte als darauf bezogene Reaktion definiert.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eitere theoretische Klärungen</a:t>
            </a:r>
            <a:br>
              <a:rPr sz="3200"/>
            </a:b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o ist der Wind Kap 7 - 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169992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Entwicklungsstufen der Spiel-“Theorie“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Unmöglichkeit der konsistenten Übersetzungen der Definitionen und Darstellung von Spielen ineinander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piele aus verschiedenen Blickwinkel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piel aus der Wirklichkeitskonstruktiven Perspektive (Leitideen aus Bezugsrahmen inszenieren!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82760" y="-360"/>
            <a:ext cx="6377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Definition und Perspekt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383840"/>
            <a:ext cx="845964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Transaktionen = Standfotos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piele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= Filmsequenzen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= Beziehungs – Muster, wie werden sie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in Kommunikationsschritten kreiert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und wie kann man eingreifen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Ursprünglich Berne (1961) :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piel = set of ulterior transactions, that lead to a predictible outcom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Spielform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383840"/>
            <a:ext cx="792504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C</a:t>
            </a:r>
            <a:r>
              <a:rPr b="0" lang="de-DE" sz="1600" spc="-1" strike="noStrike">
                <a:solidFill>
                  <a:srgbClr val="003399"/>
                </a:solidFill>
                <a:latin typeface="Trebuchet MS"/>
              </a:rPr>
              <a:t>on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+ G</a:t>
            </a:r>
            <a:r>
              <a:rPr b="0" lang="de-DE" sz="1600" spc="-1" strike="noStrike">
                <a:solidFill>
                  <a:srgbClr val="003399"/>
                </a:solidFill>
                <a:latin typeface="Trebuchet MS"/>
              </a:rPr>
              <a:t>immik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= R</a:t>
            </a:r>
            <a:r>
              <a:rPr b="0" lang="de-DE" sz="1600" spc="-1" strike="noStrike">
                <a:solidFill>
                  <a:srgbClr val="003399"/>
                </a:solidFill>
                <a:latin typeface="Trebuchet MS"/>
              </a:rPr>
              <a:t>esponses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 S</a:t>
            </a:r>
            <a:r>
              <a:rPr b="0" lang="de-DE" sz="1600" spc="-1" strike="noStrike" u="sng">
                <a:solidFill>
                  <a:srgbClr val="003399"/>
                </a:solidFill>
                <a:uFillTx/>
                <a:latin typeface="Trebuchet MS"/>
              </a:rPr>
              <a:t>witch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 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X</a:t>
            </a:r>
            <a:r>
              <a:rPr b="0" lang="de-DE" sz="1600" spc="-1" strike="noStrike" u="sng">
                <a:solidFill>
                  <a:srgbClr val="003399"/>
                </a:solidFill>
                <a:uFillTx/>
                <a:latin typeface="Trebuchet MS"/>
              </a:rPr>
              <a:t>Crossup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 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 P</a:t>
            </a:r>
            <a:r>
              <a:rPr b="0" lang="de-DE" sz="1600" spc="-1" strike="noStrike" u="sng">
                <a:solidFill>
                  <a:srgbClr val="003399"/>
                </a:solidFill>
                <a:uFillTx/>
                <a:latin typeface="Trebuchet MS"/>
              </a:rPr>
              <a:t>ayoff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C + G  = Köder + Haken (psychologische Ebene)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R  = Serie (soziale Ebene) scheinbar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unverfänglicher Transaktion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X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P =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Wechsel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Irritation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Endauszahlung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Spiel-Beispiel I: „Stupid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92504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Köder + Haken (psychologische Ebene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aK .......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kEl        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Gell, ich bin blöd?!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kEL ......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aK       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Ja, Du bist blöd!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Serie (Soziale Ebene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3.   ER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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Er z. B. Fragen + Antworten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Wechse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aK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kEl: 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Ich bin zu blöd dazu! 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5.  kEL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aK: 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Du bist wirklich zu blöd!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Endauszahlunge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aK:  Ich bin zu blöd (Mit mir kann man nichts anfangen!) Racketgefühl: trauri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kEL: Warum sind alle nur so blöd? (Man muss alles alleine machen!) Racketgefühl: ärgerlich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„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Stupid“-Darstellung mit Transaktionen (Funktionsmode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76320" y="2211480"/>
            <a:ext cx="3166920" cy="3247560"/>
            <a:chOff x="976320" y="2211480"/>
            <a:chExt cx="3166920" cy="3247560"/>
          </a:xfrm>
        </p:grpSpPr>
        <p:grpSp>
          <p:nvGrpSpPr>
            <p:cNvPr id="58" name=""/>
            <p:cNvGrpSpPr/>
            <p:nvPr/>
          </p:nvGrpSpPr>
          <p:grpSpPr>
            <a:xfrm>
              <a:off x="976320" y="2211480"/>
              <a:ext cx="1079640" cy="3222360"/>
              <a:chOff x="976320" y="2211480"/>
              <a:chExt cx="1079640" cy="3222360"/>
            </a:xfrm>
          </p:grpSpPr>
          <p:sp>
            <p:nvSpPr>
              <p:cNvPr id="59" name=""/>
              <p:cNvSpPr/>
              <p:nvPr/>
            </p:nvSpPr>
            <p:spPr>
              <a:xfrm>
                <a:off x="976320" y="2211480"/>
                <a:ext cx="107964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76320" y="3287880"/>
                <a:ext cx="107964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6320" y="4374360"/>
                <a:ext cx="107964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063960" y="2237040"/>
              <a:ext cx="1079280" cy="3222000"/>
              <a:chOff x="3063960" y="2237040"/>
              <a:chExt cx="1079280" cy="3222000"/>
            </a:xfrm>
          </p:grpSpPr>
          <p:sp>
            <p:nvSpPr>
              <p:cNvPr id="63" name=""/>
              <p:cNvSpPr/>
              <p:nvPr/>
            </p:nvSpPr>
            <p:spPr>
              <a:xfrm>
                <a:off x="3063960" y="22370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63960" y="33134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63960" y="439956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055960" y="3606840"/>
              <a:ext cx="1008000" cy="0"/>
            </a:xfrm>
            <a:prstGeom prst="line">
              <a:avLst/>
            </a:prstGeom>
            <a:ln w="19080">
              <a:solidFill>
                <a:srgbClr val="002e8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42640" y="4043520"/>
              <a:ext cx="1008360" cy="0"/>
            </a:xfrm>
            <a:prstGeom prst="line">
              <a:avLst/>
            </a:prstGeom>
            <a:ln w="19080">
              <a:solidFill>
                <a:srgbClr val="002e8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984320" y="2959200"/>
              <a:ext cx="1008000" cy="1511280"/>
            </a:xfrm>
            <a:prstGeom prst="line">
              <a:avLst/>
            </a:prstGeom>
            <a:ln w="15840">
              <a:solidFill>
                <a:srgbClr val="002e8a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116080" y="3213360"/>
              <a:ext cx="1008000" cy="1511280"/>
            </a:xfrm>
            <a:prstGeom prst="line">
              <a:avLst/>
            </a:prstGeom>
            <a:ln w="15840">
              <a:solidFill>
                <a:srgbClr val="002e8a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2000" y="1773360"/>
            <a:ext cx="0" cy="4176720"/>
          </a:xfrm>
          <a:prstGeom prst="line">
            <a:avLst/>
          </a:prstGeom>
          <a:ln cap="sq" w="12600">
            <a:solidFill>
              <a:srgbClr val="0031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51520" y="2249640"/>
            <a:ext cx="3166560" cy="3247560"/>
            <a:chOff x="5051520" y="2249640"/>
            <a:chExt cx="3166560" cy="3247560"/>
          </a:xfrm>
        </p:grpSpPr>
        <p:grpSp>
          <p:nvGrpSpPr>
            <p:cNvPr id="72" name=""/>
            <p:cNvGrpSpPr/>
            <p:nvPr/>
          </p:nvGrpSpPr>
          <p:grpSpPr>
            <a:xfrm>
              <a:off x="5051520" y="2249640"/>
              <a:ext cx="1079280" cy="3222360"/>
              <a:chOff x="5051520" y="2249640"/>
              <a:chExt cx="1079280" cy="3222360"/>
            </a:xfrm>
          </p:grpSpPr>
          <p:sp>
            <p:nvSpPr>
              <p:cNvPr id="73" name=""/>
              <p:cNvSpPr/>
              <p:nvPr/>
            </p:nvSpPr>
            <p:spPr>
              <a:xfrm>
                <a:off x="5051520" y="22496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51520" y="33260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51520" y="441252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7138800" y="2274840"/>
              <a:ext cx="1079280" cy="3222360"/>
              <a:chOff x="7138800" y="2274840"/>
              <a:chExt cx="1079280" cy="3222360"/>
            </a:xfrm>
          </p:grpSpPr>
          <p:sp>
            <p:nvSpPr>
              <p:cNvPr id="77" name=""/>
              <p:cNvSpPr/>
              <p:nvPr/>
            </p:nvSpPr>
            <p:spPr>
              <a:xfrm>
                <a:off x="7138800" y="22748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38800" y="33512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38800" y="443772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V="1">
              <a:off x="6059160" y="2997360"/>
              <a:ext cx="1008000" cy="1511280"/>
            </a:xfrm>
            <a:prstGeom prst="line">
              <a:avLst/>
            </a:prstGeom>
            <a:ln w="15840">
              <a:solidFill>
                <a:srgbClr val="002e8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190920" y="3251160"/>
              <a:ext cx="1008000" cy="1511280"/>
            </a:xfrm>
            <a:prstGeom prst="line">
              <a:avLst/>
            </a:prstGeom>
            <a:ln w="15840">
              <a:solidFill>
                <a:srgbClr val="002e8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952560" y="589608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056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Drama Dreieck (Steve Carpman)</a:t>
            </a: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Bsp. Hilfe Vergewalti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384200"/>
            <a:ext cx="8604360" cy="528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0557"/>
                </a:solidFill>
                <a:latin typeface="Trebuchet MS"/>
              </a:rPr>
              <a:t>-----------------------------------------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Opfer (-/+) / Verfolger (+/-) / Helfer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(+/-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87640" y="1887480"/>
            <a:ext cx="4968360" cy="3119760"/>
            <a:chOff x="2087640" y="1887480"/>
            <a:chExt cx="4968360" cy="3119760"/>
          </a:xfrm>
        </p:grpSpPr>
        <p:grpSp>
          <p:nvGrpSpPr>
            <p:cNvPr id="86" name=""/>
            <p:cNvGrpSpPr/>
            <p:nvPr/>
          </p:nvGrpSpPr>
          <p:grpSpPr>
            <a:xfrm>
              <a:off x="2087640" y="1887480"/>
              <a:ext cx="4968360" cy="3105360"/>
              <a:chOff x="2087640" y="1887480"/>
              <a:chExt cx="4968360" cy="3105360"/>
            </a:xfrm>
          </p:grpSpPr>
          <p:sp>
            <p:nvSpPr>
              <p:cNvPr id="87" name=""/>
              <p:cNvSpPr/>
              <p:nvPr/>
            </p:nvSpPr>
            <p:spPr>
              <a:xfrm>
                <a:off x="2087640" y="1887480"/>
                <a:ext cx="187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e8a"/>
                    </a:solidFill>
                    <a:latin typeface="Arial"/>
                  </a:rPr>
                  <a:t>Verfol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184720" y="1887480"/>
                <a:ext cx="187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e8a"/>
                    </a:solidFill>
                    <a:latin typeface="Arial"/>
                  </a:rPr>
                  <a:t>Ret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71640" y="4624560"/>
                <a:ext cx="187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e8a"/>
                    </a:solidFill>
                    <a:latin typeface="Arial"/>
                  </a:rPr>
                  <a:t>Opf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65200" y="2502000"/>
                <a:ext cx="1368360" cy="2087640"/>
              </a:xfrm>
              <a:prstGeom prst="line">
                <a:avLst/>
              </a:prstGeom>
              <a:ln w="25560">
                <a:solidFill>
                  <a:srgbClr val="002e8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3359160" y="2498040"/>
                <a:ext cx="2495880" cy="4680"/>
              </a:xfrm>
              <a:prstGeom prst="line">
                <a:avLst/>
              </a:prstGeom>
              <a:ln w="25560">
                <a:solidFill>
                  <a:srgbClr val="002e8a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4675680" y="2456640"/>
                <a:ext cx="1276560" cy="2144880"/>
              </a:xfrm>
              <a:prstGeom prst="line">
                <a:avLst/>
              </a:prstGeom>
              <a:ln w="25560">
                <a:solidFill>
                  <a:srgbClr val="002e8a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rot="1815600">
              <a:off x="5302080" y="2592000"/>
              <a:ext cx="530280" cy="2448000"/>
            </a:xfrm>
            <a:custGeom>
              <a:avLst/>
              <a:gdLst>
                <a:gd name="textAreaLeft" fmla="*/ 70920 w 530280"/>
                <a:gd name="textAreaRight" fmla="*/ 459360 w 530280"/>
                <a:gd name="textAreaTop" fmla="*/ 534240 h 2448000"/>
                <a:gd name="textAreaBottom" fmla="*/ 16174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29" stAng="-5400000" swAng="5400000"/>
                  <a:lnTo>
                    <a:pt x="21600" y="9557"/>
                  </a:lnTo>
                  <a:arcTo wR="21600" hR="9429" stAng="0" swAng="3059625"/>
                  <a:lnTo>
                    <a:pt x="7200" y="21061"/>
                  </a:lnTo>
                  <a:lnTo>
                    <a:pt x="0" y="18921"/>
                  </a:lnTo>
                  <a:lnTo>
                    <a:pt x="7200" y="15703"/>
                  </a:lnTo>
                  <a:lnTo>
                    <a:pt x="7200" y="18318"/>
                  </a:lnTo>
                  <a:arcTo wR="21600" hR="9429" stAng="3059625" swAng="-3049439"/>
                  <a:lnTo>
                    <a:pt x="21600" y="9493"/>
                  </a:lnTo>
                  <a:arcTo wR="21600" hR="9429" stAng="-10186" swAng="-5389814"/>
                  <a:close/>
                </a:path>
                <a:path fill="darkenLess" w="21600" h="21600">
                  <a:moveTo>
                    <a:pt x="0" y="0"/>
                  </a:moveTo>
                  <a:arcTo wR="21600" hR="9429" stAng="-5400000" swAng="5400000"/>
                  <a:lnTo>
                    <a:pt x="21600" y="9557"/>
                  </a:lnTo>
                  <a:arcTo wR="21600" hR="9429" stAng="0" swAng="-10186"/>
                  <a:lnTo>
                    <a:pt x="21600" y="9493"/>
                  </a:lnTo>
                  <a:arcTo wR="21600" hR="9429" stAng="-10186" swAng="-5389814"/>
                  <a:close/>
                </a:path>
              </a:pathLst>
            </a:custGeom>
            <a:noFill/>
            <a:ln w="9360">
              <a:solidFill>
                <a:srgbClr val="99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8785200">
              <a:off x="3276360" y="2463840"/>
              <a:ext cx="530280" cy="2448000"/>
            </a:xfrm>
            <a:custGeom>
              <a:avLst/>
              <a:gdLst>
                <a:gd name="textAreaLeft" fmla="*/ 70920 w 530280"/>
                <a:gd name="textAreaRight" fmla="*/ 459360 w 530280"/>
                <a:gd name="textAreaTop" fmla="*/ 534240 h 2448000"/>
                <a:gd name="textAreaBottom" fmla="*/ 16174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29" stAng="-5400000" swAng="5400000"/>
                  <a:lnTo>
                    <a:pt x="21600" y="9557"/>
                  </a:lnTo>
                  <a:arcTo wR="21600" hR="9429" stAng="0" swAng="3059625"/>
                  <a:lnTo>
                    <a:pt x="7200" y="21061"/>
                  </a:lnTo>
                  <a:lnTo>
                    <a:pt x="0" y="18921"/>
                  </a:lnTo>
                  <a:lnTo>
                    <a:pt x="7200" y="15703"/>
                  </a:lnTo>
                  <a:lnTo>
                    <a:pt x="7200" y="18318"/>
                  </a:lnTo>
                  <a:arcTo wR="21600" hR="9429" stAng="3059625" swAng="-3049439"/>
                  <a:lnTo>
                    <a:pt x="21600" y="9493"/>
                  </a:lnTo>
                  <a:arcTo wR="21600" hR="9429" stAng="-10186" swAng="-5389814"/>
                  <a:close/>
                </a:path>
                <a:path fill="darkenLess" w="21600" h="21600">
                  <a:moveTo>
                    <a:pt x="0" y="0"/>
                  </a:moveTo>
                  <a:arcTo wR="21600" hR="9429" stAng="-5400000" swAng="5400000"/>
                  <a:lnTo>
                    <a:pt x="21600" y="9557"/>
                  </a:lnTo>
                  <a:arcTo wR="21600" hR="9429" stAng="0" swAng="-10186"/>
                  <a:lnTo>
                    <a:pt x="21600" y="9493"/>
                  </a:lnTo>
                  <a:arcTo wR="21600" hR="9429" stAng="-10186" swAng="-5389814"/>
                  <a:close/>
                </a:path>
              </a:pathLst>
            </a:custGeom>
            <a:noFill/>
            <a:ln w="9360">
              <a:solidFill>
                <a:srgbClr val="99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443640" y="220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18a"/>
                </a:solidFill>
                <a:latin typeface="Trebuchet MS"/>
              </a:rPr>
              <a:t>B: „Du kannst alles haben“</a:t>
            </a:r>
            <a:r>
              <a:rPr b="1" lang="en-US" sz="1600" spc="-1" strike="noStrike">
                <a:solidFill>
                  <a:srgbClr val="850557"/>
                </a:solidFill>
                <a:latin typeface="Trebuchet MS"/>
              </a:rPr>
              <a:t>       Großmüt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508640"/>
            <a:ext cx="187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18a"/>
                </a:solidFill>
                <a:latin typeface="Trebuchet MS"/>
              </a:rPr>
              <a:t>A:„Ich brauche dringend was von Dir“</a:t>
            </a:r>
            <a:r>
              <a:rPr b="1" lang="de-DE" sz="1600" spc="-1" strike="noStrike">
                <a:solidFill>
                  <a:srgbClr val="850557"/>
                </a:solidFill>
                <a:latin typeface="Trebuchet MS"/>
              </a:rPr>
              <a:t>      Hilflos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205000"/>
            <a:ext cx="208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9bb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bbff"/>
                </a:solidFill>
                <a:latin typeface="Trebuchet MS"/>
              </a:rPr>
              <a:t>A: „Das nicht!“ </a:t>
            </a:r>
            <a:br>
              <a:rPr sz="1600"/>
            </a:br>
            <a:r>
              <a:rPr b="1" lang="en-US" sz="1600" spc="-1" strike="noStrike">
                <a:solidFill>
                  <a:srgbClr val="99bbff"/>
                </a:solidFill>
                <a:latin typeface="Trebuchet MS"/>
              </a:rPr>
              <a:t>„Finger weg!“    </a:t>
            </a:r>
            <a:r>
              <a:rPr b="1" lang="en-US" sz="1600" spc="-1" strike="noStrike">
                <a:solidFill>
                  <a:srgbClr val="850557"/>
                </a:solidFill>
                <a:latin typeface="Trebuchet MS"/>
              </a:rPr>
              <a:t>Entrüs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124000" y="3284280"/>
            <a:ext cx="432000" cy="936360"/>
          </a:xfrm>
          <a:prstGeom prst="line">
            <a:avLst/>
          </a:prstGeom>
          <a:ln cap="sq" w="25560">
            <a:solidFill>
              <a:srgbClr val="00318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4508640"/>
            <a:ext cx="187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9bb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bbff"/>
                </a:solidFill>
                <a:latin typeface="Trebuchet MS"/>
              </a:rPr>
              <a:t>B: „Ich lange immer daneben“ </a:t>
            </a:r>
            <a:r>
              <a:rPr b="1" lang="en-US" sz="1600" spc="-1" strike="noStrike">
                <a:solidFill>
                  <a:srgbClr val="850557"/>
                </a:solidFill>
                <a:latin typeface="Trebuchet MS"/>
              </a:rPr>
              <a:t>Beschäm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651360" y="3165120"/>
            <a:ext cx="378000" cy="959400"/>
          </a:xfrm>
          <a:prstGeom prst="line">
            <a:avLst/>
          </a:prstGeom>
          <a:ln cap="sq" w="25560">
            <a:solidFill>
              <a:srgbClr val="00318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Spielthemen nach bevorzugten Positionen im Drama-Drei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ferspiele: Schlag mich! Holzbein! Ich Armer! Warum passiert mir das immer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Helferspiele: Ich will Dir nur helfen! Was wärst Du ohne mich! Bin ich nicht ein Gutmensch? Sie werden noch auf mich stolz sein!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Verfolgerspiele: Ja, aber! Gerichtssaal! Schau, wozu Du mich gebracht hast! Wenn Du nicht wärst!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arum werden Spiele gespie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925040" cy="5157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Zeitstrukturierung (Intensität mit „absehbarem Risiko“) + Zuwendungshaushal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lausibilität für Lieblings- „gefühle“ (racket: sexualized feeling, ha,ha!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Sammeln von Rabattmarken, Rechtfertigung für negative Dynamike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Bestätigung von Skript-Glauben, Pflegen von Illusionen (Galgentransaktionen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Zur Einrichtung bzw. Stabilisierungen von Symbiose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Trostpreis nach gescheiterter symbiotischer Ausbeutung (Raketeering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92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Ansatzpunkte bei Spiel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4000" y="155700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Einladung vermeiden bzw. ablehne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ahrnehmen und vorwegnehmen, was sich hintergründig anbahnt: </a:t>
            </a:r>
            <a:r>
              <a:rPr b="0" i="1" lang="de-DE" sz="2800" spc="-1" strike="noStrike">
                <a:solidFill>
                  <a:srgbClr val="003399"/>
                </a:solidFill>
                <a:latin typeface="Trebuchet MS"/>
              </a:rPr>
              <a:t>(Angenommen wir machen so weiter, wo werden wir enden?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echsel nicht mitmachen oder positiv durchkreuzen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Zum Verzichten auf  negative Gefühle + Bestätigung von Wertpositionen + Glaubenssätzen einladen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Eigene Anfälligkeiten und Skriptmotivationen bzw. Nutzen herausfinden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Dr. Bernd Schmid</cp:lastModifiedBy>
  <dcterms:modified xsi:type="dcterms:W3CDTF">2009-07-08T16:55:20Z</dcterms:modified>
  <cp:revision>341</cp:revision>
  <dc:subject/>
  <dc:title>PowerPoint-Präsentation</dc:title>
</cp:coreProperties>
</file>