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7C5-3D17-4B0A-9DFC-30E0DF45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146-5E64-45D3-9CBA-E2EDB1F3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3787-D136-4018-BA76-593CF8DF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844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7828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844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7828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C295-AB11-4777-92A9-B0ABE70C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452-845D-4879-8D4D-9C1DB3A8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3B6-B308-4C2B-B3F1-0AF7EDBA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BBC-AB2C-46BB-B79B-B1B0DCDC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A660-B3B0-4562-89B3-F0FB0F7E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DBAC-1B4C-48E1-A0E3-0427812C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0381-A324-4048-B202-7CDA7109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168-00AE-4A8E-A140-2A9214BD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1BEE-62AD-4C2C-8F7A-D0F245FD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4CC6-8577-4F73-9196-4F975BEED73B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0" y="2790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3812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848720" y="76320"/>
            <a:ext cx="121896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sb-w.de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006960"/>
            <a:ext cx="80643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024600"/>
            <a:ext cx="8686800" cy="833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2e8a"/>
                </a:solidFill>
                <a:latin typeface="Trebuchet MS"/>
                <a:ea typeface="Arial"/>
              </a:rPr>
              <a:t>Institute for systemic consulting, Wiesloch (Germany)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Century Gothic"/>
                <a:ea typeface="Arial"/>
                <a:hlinkClick r:id="rId1"/>
              </a:rPr>
              <a:t>www.isb-w.de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2095560"/>
            <a:ext cx="7467840" cy="2666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2e8a"/>
                </a:solidFill>
                <a:latin typeface="Trebuchet MS"/>
              </a:rPr>
              <a:t>4 concepts of person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2e8a"/>
                </a:solidFill>
                <a:latin typeface="Trebuchet MS"/>
              </a:rPr>
              <a:t>transformed/creat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2e8a"/>
                </a:solidFill>
                <a:latin typeface="Trebuchet MS"/>
              </a:rPr>
              <a:t>by Bernd Schm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42F0-E083-4EB5-ADDA-19A57F85FC35}" type="slidenum">
              <a:t>1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6480000" cy="1358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1. Drivers</a:t>
            </a: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'</a:t>
            </a: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 counterdynamic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561440" cy="3960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Be perfect: I don‘t care!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Be strong: You can do everything with me!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Please you: Better nasty than nobody!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Try hard: Easy going!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Hurry up: Let it be! Freezing to be calm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B04-3F8A-4002-B692-DB9A5BECF92A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6521760" cy="1358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2. Redefining Identity-beliefs</a:t>
            </a:r>
            <a:br>
              <a:rPr sz="3200"/>
            </a:br>
            <a:r>
              <a:rPr b="1" lang="de-DE" sz="2000" spc="-1" strike="noStrike">
                <a:solidFill>
                  <a:srgbClr val="00318a"/>
                </a:solidFill>
                <a:latin typeface="Trebuchet MS"/>
              </a:rPr>
              <a:t>(ritual on changing identity card)</a:t>
            </a:r>
            <a:br>
              <a:rPr sz="2000"/>
            </a:br>
            <a:r>
              <a:rPr b="1" i="1" lang="de-DE" sz="2000" spc="-1" strike="noStrike">
                <a:solidFill>
                  <a:srgbClr val="00318a"/>
                </a:solidFill>
                <a:latin typeface="Trebuchet MS"/>
              </a:rPr>
              <a:t>transforming 3rd degree impass Bob+Mary Goul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632720" cy="4581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Differentiating between acting and experiencing, and beliefs about identity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Detecting identity belief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Redefining identity belief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Authorizing newly-adopted identity-belief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375B-C740-4DE2-A2DE-DA36B96F06D7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098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0984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2080" y="11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2080" y="571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3280" y="189000"/>
            <a:ext cx="6264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318a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Relationship – p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	</a:t>
            </a: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I&lt;-&gt; you   versus   I &lt;–&gt;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18a"/>
                </a:solidFill>
                <a:latin typeface="Trebuchet MS"/>
              </a:rPr>
              <a:t>Transforming a concept of Viktor Frank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95880" y="5589720"/>
            <a:ext cx="39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I &lt;-&gt; You preference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87360" y="2421000"/>
            <a:ext cx="6426360" cy="2449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725-26F2-4825-BFC3-D220245F8C98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098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0984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2080" y="11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2080" y="571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94240" y="580536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I &lt;–&gt; It  -preference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551640" cy="3627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D8CB-AF8E-4879-AE7B-3A97C554918E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57340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e8a"/>
                </a:solidFill>
                <a:latin typeface="Trebuchet MS"/>
              </a:rPr>
              <a:t> </a:t>
            </a:r>
            <a:r>
              <a:rPr b="1" lang="de-DE" sz="2400" spc="-1" strike="noStrike">
                <a:solidFill>
                  <a:srgbClr val="002e8a"/>
                </a:solidFill>
                <a:latin typeface="Trebuchet MS"/>
              </a:rPr>
              <a:t>Integrated I &lt;-&gt;You / I &lt;-&gt; it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481800" cy="355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8D15-9F2B-435D-8168-DDCB6B0EA8E1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89000"/>
            <a:ext cx="7201080" cy="13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4.Excitement-Intensifyer vs Excitement- Dimin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2e8a"/>
                </a:solidFill>
                <a:latin typeface="Trebuchet MS"/>
              </a:rPr>
              <a:t>Transforming a concept of Roland Fis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CurvedRibbon3"/>
          <p:cNvSpPr/>
          <p:nvPr/>
        </p:nvSpPr>
        <p:spPr>
          <a:xfrm>
            <a:off x="3273480" y="2971800"/>
            <a:ext cx="2595600" cy="259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481" y="17610"/>
                </a:moveTo>
                <a:lnTo>
                  <a:pt x="4525" y="16929"/>
                </a:lnTo>
                <a:lnTo>
                  <a:pt x="7464" y="20597"/>
                </a:lnTo>
                <a:arcTo wR="10349" hR="10349" stAng="6528311" swAng="3223896"/>
                <a:lnTo>
                  <a:pt x="498" y="14041"/>
                </a:lnTo>
                <a:arcTo wR="10800" hR="10800" stAng="9752207" swAng="12895586"/>
                <a:lnTo>
                  <a:pt x="20672" y="13906"/>
                </a:lnTo>
                <a:arcTo wR="10349" hR="10349" stAng="1047793" swAng="3223896"/>
                <a:lnTo>
                  <a:pt x="17075" y="16929"/>
                </a:lnTo>
                <a:lnTo>
                  <a:pt x="13119" y="17610"/>
                </a:lnTo>
                <a:arcTo wR="7194" hR="7194" stAng="4271689" swAng="-4835845"/>
                <a:lnTo>
                  <a:pt x="18342" y="9551"/>
                </a:lnTo>
                <a:arcTo wR="7645" hR="7645" stAng="-564155" swAng="-9671689"/>
                <a:lnTo>
                  <a:pt x="3703" y="9625"/>
                </a:lnTo>
                <a:arcTo wR="7194" hR="7194" stAng="-10235845" swAng="-4835845"/>
                <a:close/>
              </a:path>
              <a:path fill="none" w="21600" h="21600">
                <a:moveTo>
                  <a:pt x="928" y="13906"/>
                </a:moveTo>
                <a:lnTo>
                  <a:pt x="3508" y="13094"/>
                </a:lnTo>
                <a:arcTo wR="7645" hR="7645" stAng="9752207" swAng="1611948"/>
              </a:path>
              <a:path fill="none" w="21600" h="21600">
                <a:moveTo>
                  <a:pt x="3508" y="13094"/>
                </a:moveTo>
                <a:lnTo>
                  <a:pt x="3703" y="9625"/>
                </a:lnTo>
              </a:path>
              <a:path fill="none" w="21600" h="21600">
                <a:moveTo>
                  <a:pt x="20672" y="13906"/>
                </a:moveTo>
                <a:lnTo>
                  <a:pt x="18092" y="13094"/>
                </a:lnTo>
                <a:arcTo wR="7645" hR="7645" stAng="1047793" swAng="-1611948"/>
              </a:path>
              <a:path fill="none" w="21600" h="21600">
                <a:moveTo>
                  <a:pt x="18092" y="13094"/>
                </a:moveTo>
                <a:lnTo>
                  <a:pt x="17897" y="9625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514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e8a"/>
                </a:solidFill>
                <a:latin typeface="Trebuchet MS"/>
              </a:rPr>
              <a:t>Normal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3238560"/>
            <a:ext cx="685800" cy="38088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76920" y="3238560"/>
            <a:ext cx="761760" cy="38088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53341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71200">
            <a:off x="3733920" y="4952880"/>
            <a:ext cx="838080" cy="609840"/>
          </a:xfrm>
          <a:prstGeom prst="rightArrow">
            <a:avLst>
              <a:gd name="adj1" fmla="val 63083"/>
              <a:gd name="adj2" fmla="val 95263"/>
            </a:avLst>
          </a:prstGeom>
          <a:solidFill>
            <a:srgbClr val="b7c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8606400">
            <a:off x="4571640" y="4952880"/>
            <a:ext cx="838080" cy="609840"/>
          </a:xfrm>
          <a:prstGeom prst="rightArrow">
            <a:avLst>
              <a:gd name="adj1" fmla="val 63083"/>
              <a:gd name="adj2" fmla="val 95263"/>
            </a:avLst>
          </a:prstGeom>
          <a:solidFill>
            <a:srgbClr val="b7c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429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e8a"/>
                </a:solidFill>
                <a:latin typeface="Trebuchet MS"/>
              </a:rPr>
              <a:t>Excitement- Dimin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34290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e8a"/>
                </a:solidFill>
                <a:latin typeface="Trebuchet MS"/>
              </a:rPr>
              <a:t>Excitement-Intens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8a"/>
                </a:solidFill>
                <a:latin typeface="Trebuchet MS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4D9-AC7D-43DB-9238-CF8CA8BA1043}" type="slidenum">
              <a:t>7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1:18:09Z</dcterms:created>
  <dc:creator>Institut für systemische Beratung</dc:creator>
  <dc:description/>
  <dc:language>en-US</dc:language>
  <cp:lastModifiedBy>Rona Rowe</cp:lastModifiedBy>
  <dcterms:modified xsi:type="dcterms:W3CDTF">2011-07-05T16:57:15Z</dcterms:modified>
  <cp:revision>429</cp:revision>
  <dc:subject/>
  <dc:title>PowerPoint-Präsentation</dc:title>
</cp:coreProperties>
</file>