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1C-D68E-460F-965C-D46DCBED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25B-A491-47A6-A05C-AC80DC22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2D2-4485-462D-A335-6543A4B8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418-7DBA-4CFC-B8EF-67406DB5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895-8F6B-4DBA-9EBE-F8902B09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37F-8EE6-4D1C-B5A2-8DFF6D6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B3C-3788-4DB3-BC38-089373C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DA7-C3A6-4559-A6B1-972C451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68F-F2AF-416E-B022-05FC76E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05D-B329-4E18-BC2D-DDF16BA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EE8-73C8-4906-9F4C-F281D2F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2CD-870D-4F6D-B953-BB16987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2AD5-840B-46CB-A647-20ECF0DDE85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4 concepts of person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ransformed/crea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by Bernd Schm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E4E-657A-47D6-86A1-CC3E3A5F00D0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48000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1. Drivers</a:t>
            </a: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 counterdynam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561440" cy="396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 perfect: I don‘t car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 strong: You can do everything with me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lease you: Better nasty than nobody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ry hard: Easy going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Hurry up: Let it be! Freezing to be calm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C37-5C1B-4CBD-A6CA-6467E507C619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52176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2. Redefining Identity-beliefs</a:t>
            </a:r>
            <a:br>
              <a:rPr sz="3200"/>
            </a:br>
            <a:r>
              <a:rPr b="1" lang="de-DE" sz="2000" spc="-1" strike="noStrike">
                <a:solidFill>
                  <a:srgbClr val="00318a"/>
                </a:solidFill>
                <a:latin typeface="Trebuchet MS"/>
              </a:rPr>
              <a:t>(ritual on changing identity card)</a:t>
            </a:r>
            <a:br>
              <a:rPr sz="2000"/>
            </a:br>
            <a:r>
              <a:rPr b="1" i="1" lang="de-DE" sz="2000" spc="-1" strike="noStrike">
                <a:solidFill>
                  <a:srgbClr val="00318a"/>
                </a:solidFill>
                <a:latin typeface="Trebuchet MS"/>
              </a:rPr>
              <a:t>transforming 3rd degree impass Bob+Mary Gou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32720" cy="458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Differentiating between acting and experiencing, and beliefs about identi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Detecting identity belief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Redefining identity belief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Authorizing newly-adopted identity-belief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A75-2B0D-4E07-B656-8BD880B218B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2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080" y="57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189000"/>
            <a:ext cx="6264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318a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elationship –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	</a:t>
            </a: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&lt;-&gt; you   versus   I &lt;–&gt;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18a"/>
                </a:solidFill>
                <a:latin typeface="Trebuchet MS"/>
              </a:rPr>
              <a:t>Transforming a concept of Viktor Fran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95880" y="55897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 &lt;-&gt; You preferenc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87360" y="2421000"/>
            <a:ext cx="6426360" cy="244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EC7-C22D-43A8-9ADD-25FD319F3B9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9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98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080" y="57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94240" y="580536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I &lt;–&gt; It  -preferenc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551640" cy="362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BFD-20DD-4774-8D8A-F0B05E0349E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57340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Integrated I &lt;-&gt;You / I &lt;-&gt; i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35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37E-8C5B-4C69-BF40-4C7E8FBC249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89000"/>
            <a:ext cx="7201080" cy="136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4.Excitement-Intensifyer vs Excitement- Dimin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2e8a"/>
                </a:solidFill>
                <a:latin typeface="Trebuchet MS"/>
              </a:rPr>
              <a:t>Transforming a concept of Roland Fis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urvedRibbon3"/>
          <p:cNvSpPr/>
          <p:nvPr/>
        </p:nvSpPr>
        <p:spPr>
          <a:xfrm>
            <a:off x="3273480" y="2971800"/>
            <a:ext cx="2595600" cy="259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481" y="17610"/>
                </a:moveTo>
                <a:lnTo>
                  <a:pt x="4525" y="16929"/>
                </a:lnTo>
                <a:lnTo>
                  <a:pt x="7464" y="20597"/>
                </a:lnTo>
                <a:arcTo wR="10349" hR="10349" stAng="6528311" swAng="3223896"/>
                <a:lnTo>
                  <a:pt x="498" y="14041"/>
                </a:lnTo>
                <a:arcTo wR="10800" hR="10800" stAng="9752207" swAng="12895586"/>
                <a:lnTo>
                  <a:pt x="20672" y="13906"/>
                </a:lnTo>
                <a:arcTo wR="10349" hR="10349" stAng="1047793" swAng="3223896"/>
                <a:lnTo>
                  <a:pt x="17075" y="16929"/>
                </a:lnTo>
                <a:lnTo>
                  <a:pt x="13119" y="17610"/>
                </a:lnTo>
                <a:arcTo wR="7194" hR="7194" stAng="4271689" swAng="-4835845"/>
                <a:lnTo>
                  <a:pt x="18342" y="9551"/>
                </a:lnTo>
                <a:arcTo wR="7645" hR="7645" stAng="-564155" swAng="-9671689"/>
                <a:lnTo>
                  <a:pt x="3703" y="9625"/>
                </a:lnTo>
                <a:arcTo wR="7194" hR="7194" stAng="-10235845" swAng="-4835845"/>
                <a:close/>
              </a:path>
              <a:path fill="none" w="21600" h="21600">
                <a:moveTo>
                  <a:pt x="928" y="13906"/>
                </a:moveTo>
                <a:lnTo>
                  <a:pt x="3508" y="13094"/>
                </a:lnTo>
                <a:arcTo wR="7645" hR="7645" stAng="9752207" swAng="1611948"/>
              </a:path>
              <a:path fill="none" w="21600" h="21600">
                <a:moveTo>
                  <a:pt x="3508" y="13094"/>
                </a:moveTo>
                <a:lnTo>
                  <a:pt x="3703" y="9625"/>
                </a:lnTo>
              </a:path>
              <a:path fill="none" w="21600" h="21600">
                <a:moveTo>
                  <a:pt x="20672" y="13906"/>
                </a:moveTo>
                <a:lnTo>
                  <a:pt x="18092" y="13094"/>
                </a:lnTo>
                <a:arcTo wR="7645" hR="7645" stAng="1047793" swAng="-1611948"/>
              </a:path>
              <a:path fill="none" w="21600" h="21600">
                <a:moveTo>
                  <a:pt x="18092" y="13094"/>
                </a:moveTo>
                <a:lnTo>
                  <a:pt x="17897" y="962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Normal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38560"/>
            <a:ext cx="68580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3238560"/>
            <a:ext cx="761760" cy="3808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334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71200">
            <a:off x="3733920" y="4952880"/>
            <a:ext cx="838080" cy="609840"/>
          </a:xfrm>
          <a:prstGeom prst="rightArrow">
            <a:avLst>
              <a:gd name="adj1" fmla="val 63083"/>
              <a:gd name="adj2" fmla="val 95263"/>
            </a:avLst>
          </a:prstGeom>
          <a:solidFill>
            <a:srgbClr val="b7c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606400">
            <a:off x="4571640" y="4952880"/>
            <a:ext cx="838080" cy="609840"/>
          </a:xfrm>
          <a:prstGeom prst="rightArrow">
            <a:avLst>
              <a:gd name="adj1" fmla="val 63083"/>
              <a:gd name="adj2" fmla="val 95263"/>
            </a:avLst>
          </a:prstGeom>
          <a:solidFill>
            <a:srgbClr val="b7c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429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Excitement- Dimin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4290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e8a"/>
                </a:solidFill>
                <a:latin typeface="Trebuchet MS"/>
              </a:rPr>
              <a:t>Excitement-Intens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a"/>
                </a:solidFill>
                <a:latin typeface="Trebuchet MS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7DB-ABA1-4D7F-853F-8100A4992C78}" type="slidenum">
              <a:t>7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6:57:15Z</dcterms:modified>
  <cp:revision>429</cp:revision>
  <dc:subject/>
  <dc:title>PowerPoint-Präsentation</dc:title>
</cp:coreProperties>
</file>